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11887200" cy="7772400"/>
  <p:notesSz cx="7051675" cy="1113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52400" cy="1113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65400" cy="5475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87360" y="-360"/>
            <a:ext cx="3065400" cy="5475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17520" y="822240"/>
            <a:ext cx="6418080" cy="419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73440" rIns="7344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9080" y="5294160"/>
            <a:ext cx="5214960" cy="5021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10590120"/>
            <a:ext cx="3065400" cy="5479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87360" y="10590120"/>
            <a:ext cx="3065400" cy="5479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b">
            <a:noAutofit/>
          </a:bodyPr>
          <a:lstStyle>
            <a:lvl1pPr indent="0" algn="r"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fld id="{50F78051-5000-470F-9D80-50232FF75A7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sldImg"/>
          </p:nvPr>
        </p:nvSpPr>
        <p:spPr>
          <a:xfrm>
            <a:off x="317520" y="822240"/>
            <a:ext cx="6418080" cy="4197600"/>
          </a:xfrm>
          <a:prstGeom prst="rect">
            <a:avLst/>
          </a:prstGeom>
          <a:ln w="0">
            <a:noFill/>
          </a:ln>
        </p:spPr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919080" y="5294160"/>
            <a:ext cx="521496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Slide Number Placeholder 3"/>
          <p:cNvSpPr/>
          <p:nvPr/>
        </p:nvSpPr>
        <p:spPr>
          <a:xfrm>
            <a:off x="3987720" y="10590120"/>
            <a:ext cx="306540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b">
            <a:noAutofit/>
          </a:bodyPr>
          <a:p>
            <a:pPr algn="r"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fld id="{1C45B006-971F-41EC-B5BB-DA16F7BF302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sldImg"/>
          </p:nvPr>
        </p:nvSpPr>
        <p:spPr>
          <a:xfrm>
            <a:off x="317520" y="822240"/>
            <a:ext cx="6418080" cy="4197600"/>
          </a:xfrm>
          <a:prstGeom prst="rect">
            <a:avLst/>
          </a:prstGeom>
          <a:ln w="0">
            <a:noFill/>
          </a:ln>
        </p:spPr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919080" y="5294160"/>
            <a:ext cx="521496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Slide Number Placeholder 3"/>
          <p:cNvSpPr/>
          <p:nvPr/>
        </p:nvSpPr>
        <p:spPr>
          <a:xfrm>
            <a:off x="3987720" y="10590120"/>
            <a:ext cx="306540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b">
            <a:noAutofit/>
          </a:bodyPr>
          <a:p>
            <a:pPr algn="r"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fld id="{C6D91DFA-F356-4312-B894-61607412D3D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sldImg"/>
          </p:nvPr>
        </p:nvSpPr>
        <p:spPr>
          <a:xfrm>
            <a:off x="317520" y="822240"/>
            <a:ext cx="6418080" cy="4197600"/>
          </a:xfrm>
          <a:prstGeom prst="rect">
            <a:avLst/>
          </a:prstGeom>
          <a:ln w="0">
            <a:noFill/>
          </a:ln>
        </p:spPr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919080" y="5294160"/>
            <a:ext cx="521496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Slide Number Placeholder 3"/>
          <p:cNvSpPr/>
          <p:nvPr/>
        </p:nvSpPr>
        <p:spPr>
          <a:xfrm>
            <a:off x="3987720" y="10590120"/>
            <a:ext cx="306540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b">
            <a:noAutofit/>
          </a:bodyPr>
          <a:p>
            <a:pPr algn="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fld id="{A5266D08-294F-407D-8CDF-B4850C15B2A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E856-6CAD-4FD9-B94F-321EBE2AC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93520" y="690120"/>
            <a:ext cx="10101240" cy="129564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93520" y="2246040"/>
            <a:ext cx="10101240" cy="22237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93520" y="4681440"/>
            <a:ext cx="10101240" cy="22237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6507-4804-4DD1-B663-59C64CCC0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93520" y="690120"/>
            <a:ext cx="10101240" cy="129564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93520" y="2246040"/>
            <a:ext cx="4929120" cy="22237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69600" y="2246040"/>
            <a:ext cx="4929120" cy="22237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93520" y="4681440"/>
            <a:ext cx="4929120" cy="22237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69600" y="4681440"/>
            <a:ext cx="4929120" cy="22237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5A37-8089-4169-8A93-58C996C56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93520" y="690120"/>
            <a:ext cx="10101240" cy="129564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93520" y="2246040"/>
            <a:ext cx="3252240" cy="22237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08840" y="2246040"/>
            <a:ext cx="3252240" cy="22237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724160" y="2246040"/>
            <a:ext cx="3252240" cy="22237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93520" y="4681440"/>
            <a:ext cx="3252240" cy="22237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08840" y="4681440"/>
            <a:ext cx="3252240" cy="22237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724160" y="4681440"/>
            <a:ext cx="3252240" cy="22237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2324-4888-46CF-8DCB-217735AAF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93520" y="690120"/>
            <a:ext cx="10101240" cy="129564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93520" y="2246040"/>
            <a:ext cx="10101240" cy="46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2668-25F7-4026-925D-A355EC147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93520" y="690120"/>
            <a:ext cx="10101240" cy="129564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93520" y="2246040"/>
            <a:ext cx="10101240" cy="46623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C7F9-1FEE-443A-9896-1D1B9A131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93520" y="690120"/>
            <a:ext cx="10101240" cy="129564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93520" y="2246040"/>
            <a:ext cx="4929120" cy="46623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069600" y="2246040"/>
            <a:ext cx="4929120" cy="46623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F703-049D-442D-9C0F-F964EF830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93520" y="690120"/>
            <a:ext cx="10101240" cy="129564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9950-E7B0-4CE7-A0A1-F224ACEE0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93520" y="690120"/>
            <a:ext cx="101012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842E-5762-4C06-A530-598046637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93520" y="690120"/>
            <a:ext cx="10101240" cy="129564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93520" y="2246040"/>
            <a:ext cx="4929120" cy="22237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069600" y="2246040"/>
            <a:ext cx="4929120" cy="46623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93520" y="4681440"/>
            <a:ext cx="4929120" cy="22237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63B6-CD26-4578-B02C-B5BD2A46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93520" y="690120"/>
            <a:ext cx="10101240" cy="129564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93520" y="2246040"/>
            <a:ext cx="4929120" cy="46623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069600" y="2246040"/>
            <a:ext cx="4929120" cy="22237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69600" y="4681440"/>
            <a:ext cx="4929120" cy="22237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E41D-9984-48A6-AD6C-9AD05D3CA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93520" y="690120"/>
            <a:ext cx="10101240" cy="129564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93520" y="2246040"/>
            <a:ext cx="4929120" cy="22237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69600" y="2246040"/>
            <a:ext cx="4929120" cy="22237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93520" y="4681440"/>
            <a:ext cx="10101240" cy="22237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BBEE-CE6C-4417-BCD1-83CBA28D9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93520" y="690120"/>
            <a:ext cx="10101240" cy="129564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93520" y="2246040"/>
            <a:ext cx="10101240" cy="46623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 fontScale="95000"/>
          </a:bodyPr>
          <a:p>
            <a:pPr marL="379800" indent="-379800">
              <a:spcBef>
                <a:spcPts val="950"/>
              </a:spcBef>
              <a:buClr>
                <a:srgbClr val="000000"/>
              </a:buClr>
              <a:buFont typeface="Times New Roman"/>
              <a:buChar char="•"/>
              <a:tabLst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560" indent="-318240">
              <a:spcBef>
                <a:spcPts val="950"/>
              </a:spcBef>
              <a:buClr>
                <a:srgbClr val="000000"/>
              </a:buClr>
              <a:buFont typeface="Times New Roman"/>
              <a:buChar char="–"/>
              <a:tabLst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2600" indent="-254520">
              <a:spcBef>
                <a:spcPts val="950"/>
              </a:spcBef>
              <a:buClr>
                <a:srgbClr val="000000"/>
              </a:buClr>
              <a:buFont typeface="Times New Roman"/>
              <a:buChar char="•"/>
              <a:tabLst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360" indent="-253080">
              <a:spcBef>
                <a:spcPts val="950"/>
              </a:spcBef>
              <a:buClr>
                <a:srgbClr val="000000"/>
              </a:buClr>
              <a:buFont typeface="Times New Roman"/>
              <a:buChar char="–"/>
              <a:tabLst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120" indent="-254520">
              <a:spcBef>
                <a:spcPts val="950"/>
              </a:spcBef>
              <a:buClr>
                <a:srgbClr val="000000"/>
              </a:buClr>
              <a:buFont typeface="Times New Roman"/>
              <a:buChar char="»"/>
              <a:tabLst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120" indent="-254520">
              <a:spcBef>
                <a:spcPts val="950"/>
              </a:spcBef>
              <a:buClr>
                <a:srgbClr val="000000"/>
              </a:buClr>
              <a:buFont typeface="Times New Roman"/>
              <a:buChar char="»"/>
              <a:tabLst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120" indent="-254520">
              <a:spcBef>
                <a:spcPts val="950"/>
              </a:spcBef>
              <a:buClr>
                <a:srgbClr val="000000"/>
              </a:buClr>
              <a:buFont typeface="Times New Roman"/>
              <a:buChar char="»"/>
              <a:tabLst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93520" y="7081560"/>
            <a:ext cx="2476440" cy="5173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60800" y="7081560"/>
            <a:ext cx="3767040" cy="5173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115 -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18320" y="7081560"/>
            <a:ext cx="2476440" cy="5173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D5A40-B53F-4B44-A837-0B8135641B2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1"/>
          <p:cNvSpPr/>
          <p:nvPr/>
        </p:nvSpPr>
        <p:spPr>
          <a:xfrm>
            <a:off x="1523880" y="1066680"/>
            <a:ext cx="35053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marL="228600" indent="-2286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Bookman Old Styl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man Old Style"/>
              </a:rPr>
              <a:t>CABANG DINAS PENDIDIKAN DAN KEBUDAYAAN PROVINSI BANTE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7620120" y="863640"/>
            <a:ext cx="4054320" cy="11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02888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man Old Style"/>
              </a:rPr>
              <a:t>LAMPIRAN I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02888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man Old Style"/>
              </a:rPr>
              <a:t>PERATURAN GUBERNUR BANTEN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02888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Bookman Old Style"/>
              </a:rPr>
              <a:t>NOMOR  19  TAHUN 2018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02888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Bookman Old Style"/>
              </a:rPr>
              <a:t>TENTANG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02888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000000"/>
                </a:solidFill>
                <a:latin typeface="Bookman Old Style"/>
              </a:rPr>
              <a:t>PEMBENTUKAN ORGANISASI DAN TATA KERJA CABANG DINAS DAN UNIT PELAKSANA TEKNIS DAERAH DILINGKUNGAN PEMERINTAH PROVINSI BANTE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Group 1"/>
          <p:cNvGrpSpPr/>
          <p:nvPr/>
        </p:nvGrpSpPr>
        <p:grpSpPr>
          <a:xfrm>
            <a:off x="2003400" y="2514600"/>
            <a:ext cx="7902720" cy="3348360"/>
            <a:chOff x="2003400" y="2514600"/>
            <a:chExt cx="7902720" cy="3348360"/>
          </a:xfrm>
        </p:grpSpPr>
        <p:sp>
          <p:nvSpPr>
            <p:cNvPr id="51" name="Line 4"/>
            <p:cNvSpPr/>
            <p:nvPr/>
          </p:nvSpPr>
          <p:spPr>
            <a:xfrm>
              <a:off x="5943600" y="2902320"/>
              <a:ext cx="4680" cy="2066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560" rIns="115560" tIns="57600" bIns="576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Text Box 5"/>
            <p:cNvSpPr/>
            <p:nvPr/>
          </p:nvSpPr>
          <p:spPr>
            <a:xfrm>
              <a:off x="7925040" y="2950200"/>
              <a:ext cx="1981080" cy="639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560" rIns="115560" tIns="57960" bIns="57960" anchor="t">
              <a:spAutoFit/>
            </a:bodyPr>
            <a:p>
              <a:pPr algn="ctr">
                <a:lnSpc>
                  <a:spcPts val="2024"/>
                </a:lnSpc>
                <a:spcBef>
                  <a:spcPts val="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 Old Style"/>
                </a:rPr>
                <a:t>SUB BAGIAN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2024"/>
                </a:lnSpc>
                <a:spcBef>
                  <a:spcPts val="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 Old Style"/>
                </a:rPr>
                <a:t>TATA USAHA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Text Box 6"/>
            <p:cNvSpPr/>
            <p:nvPr/>
          </p:nvSpPr>
          <p:spPr>
            <a:xfrm>
              <a:off x="2003400" y="3448440"/>
              <a:ext cx="1981080" cy="420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560" rIns="115560" tIns="57960" bIns="579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Bookman Old Style"/>
                </a:rPr>
                <a:t>KELOMPOK JABATAN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Bookman Old Style"/>
                </a:rPr>
                <a:t>FUNGSIONAL PENGAWAS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Line 7"/>
            <p:cNvSpPr/>
            <p:nvPr/>
          </p:nvSpPr>
          <p:spPr>
            <a:xfrm>
              <a:off x="2003400" y="411696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560" rIns="115560" tIns="-57600" bIns="-576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Line 8"/>
            <p:cNvSpPr/>
            <p:nvPr/>
          </p:nvSpPr>
          <p:spPr>
            <a:xfrm>
              <a:off x="2003400" y="433908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560" rIns="115560" tIns="-57600" bIns="-576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Line 9"/>
            <p:cNvSpPr/>
            <p:nvPr/>
          </p:nvSpPr>
          <p:spPr>
            <a:xfrm>
              <a:off x="2003400" y="4546800"/>
              <a:ext cx="198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560" rIns="115560" tIns="-57600" bIns="-576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Line 10"/>
            <p:cNvSpPr/>
            <p:nvPr/>
          </p:nvSpPr>
          <p:spPr>
            <a:xfrm flipV="1">
              <a:off x="2003400" y="3882960"/>
              <a:ext cx="0" cy="66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560" rIns="115560" tIns="57600" bIns="576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11"/>
            <p:cNvSpPr/>
            <p:nvPr/>
          </p:nvSpPr>
          <p:spPr>
            <a:xfrm flipV="1">
              <a:off x="2287440" y="3882960"/>
              <a:ext cx="0" cy="66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560" rIns="115560" tIns="57600" bIns="576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12"/>
            <p:cNvSpPr/>
            <p:nvPr/>
          </p:nvSpPr>
          <p:spPr>
            <a:xfrm flipV="1">
              <a:off x="3981240" y="3882960"/>
              <a:ext cx="0" cy="66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560" rIns="115560" tIns="57600" bIns="576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Line 13"/>
            <p:cNvSpPr/>
            <p:nvPr/>
          </p:nvSpPr>
          <p:spPr>
            <a:xfrm flipV="1">
              <a:off x="3106440" y="3895920"/>
              <a:ext cx="0" cy="64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560" rIns="115560" tIns="57600" bIns="576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14"/>
            <p:cNvSpPr/>
            <p:nvPr/>
          </p:nvSpPr>
          <p:spPr>
            <a:xfrm flipV="1">
              <a:off x="3405240" y="3882960"/>
              <a:ext cx="0" cy="66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560" rIns="115560" tIns="57600" bIns="576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15"/>
            <p:cNvSpPr/>
            <p:nvPr/>
          </p:nvSpPr>
          <p:spPr>
            <a:xfrm flipV="1">
              <a:off x="3687840" y="3882960"/>
              <a:ext cx="0" cy="66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560" rIns="115560" tIns="57600" bIns="576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Line 16"/>
            <p:cNvSpPr/>
            <p:nvPr/>
          </p:nvSpPr>
          <p:spPr>
            <a:xfrm flipV="1">
              <a:off x="2823840" y="3882960"/>
              <a:ext cx="0" cy="64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560" rIns="115560" tIns="57600" bIns="576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17"/>
            <p:cNvSpPr/>
            <p:nvPr/>
          </p:nvSpPr>
          <p:spPr>
            <a:xfrm flipV="1">
              <a:off x="2541240" y="3882960"/>
              <a:ext cx="0" cy="64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560" rIns="115560" tIns="57600" bIns="576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Line 18"/>
            <p:cNvSpPr/>
            <p:nvPr/>
          </p:nvSpPr>
          <p:spPr>
            <a:xfrm>
              <a:off x="2984400" y="3208680"/>
              <a:ext cx="4940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560" rIns="115560" tIns="-57600" bIns="-576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Line 19"/>
            <p:cNvSpPr/>
            <p:nvPr/>
          </p:nvSpPr>
          <p:spPr>
            <a:xfrm>
              <a:off x="2984400" y="3200760"/>
              <a:ext cx="0" cy="236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560" rIns="115560" tIns="57600" bIns="576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Line 20"/>
            <p:cNvSpPr/>
            <p:nvPr/>
          </p:nvSpPr>
          <p:spPr>
            <a:xfrm>
              <a:off x="3822480" y="4972320"/>
              <a:ext cx="4229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560" rIns="115560" tIns="-57600" bIns="-576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Text Box 22"/>
            <p:cNvSpPr/>
            <p:nvPr/>
          </p:nvSpPr>
          <p:spPr>
            <a:xfrm>
              <a:off x="2819160" y="5135760"/>
              <a:ext cx="2001960" cy="7257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560" rIns="115560" tIns="57960" bIns="57960" anchor="t">
              <a:spAutoFit/>
            </a:bodyPr>
            <a:p>
              <a:pPr algn="ctr">
                <a:lnSpc>
                  <a:spcPts val="11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SEKSI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1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SMA DAN KEBUDAYAAN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1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Line 23"/>
            <p:cNvSpPr/>
            <p:nvPr/>
          </p:nvSpPr>
          <p:spPr>
            <a:xfrm>
              <a:off x="3822480" y="4972320"/>
              <a:ext cx="0" cy="16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560" rIns="115560" tIns="57600" bIns="576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Line 24"/>
            <p:cNvSpPr/>
            <p:nvPr/>
          </p:nvSpPr>
          <p:spPr>
            <a:xfrm>
              <a:off x="8061480" y="4972320"/>
              <a:ext cx="0" cy="16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560" rIns="115560" tIns="57600" bIns="576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Text Box 26"/>
            <p:cNvSpPr/>
            <p:nvPr/>
          </p:nvSpPr>
          <p:spPr>
            <a:xfrm>
              <a:off x="6954840" y="5137200"/>
              <a:ext cx="2212920" cy="7257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560" rIns="115560" tIns="57960" bIns="5796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SEKSI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SMK DAN SKh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Text Box 21"/>
            <p:cNvSpPr/>
            <p:nvPr/>
          </p:nvSpPr>
          <p:spPr>
            <a:xfrm>
              <a:off x="5237280" y="2514600"/>
              <a:ext cx="1403280" cy="3906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560" rIns="115560" tIns="57960" bIns="5796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 Old Style"/>
                </a:rPr>
                <a:t>KEPALA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Footer Placeholder 2"/>
          <p:cNvSpPr/>
          <p:nvPr/>
        </p:nvSpPr>
        <p:spPr>
          <a:xfrm>
            <a:off x="4060800" y="7081920"/>
            <a:ext cx="37670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- 115 -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31"/>
          <p:cNvSpPr/>
          <p:nvPr/>
        </p:nvSpPr>
        <p:spPr>
          <a:xfrm>
            <a:off x="4572000" y="851040"/>
            <a:ext cx="274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man Old Style"/>
              </a:rPr>
              <a:t>BAGAN STRUKTUR ORGANISASI</a:t>
            </a:r>
            <a:br>
              <a:rPr sz="1000"/>
            </a:b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3" name="Group 4"/>
          <p:cNvGrpSpPr/>
          <p:nvPr/>
        </p:nvGrpSpPr>
        <p:grpSpPr>
          <a:xfrm>
            <a:off x="2057400" y="1828800"/>
            <a:ext cx="7710480" cy="3633480"/>
            <a:chOff x="2057400" y="1828800"/>
            <a:chExt cx="7710480" cy="3633480"/>
          </a:xfrm>
        </p:grpSpPr>
        <p:sp>
          <p:nvSpPr>
            <p:cNvPr id="394" name="Text Box 5"/>
            <p:cNvSpPr/>
            <p:nvPr/>
          </p:nvSpPr>
          <p:spPr>
            <a:xfrm>
              <a:off x="5067000" y="1828800"/>
              <a:ext cx="1684440" cy="307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ookman Old Style"/>
                </a:rPr>
                <a:t>KEPALA 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Text Box 6"/>
            <p:cNvSpPr/>
            <p:nvPr/>
          </p:nvSpPr>
          <p:spPr>
            <a:xfrm>
              <a:off x="7787160" y="2769480"/>
              <a:ext cx="1980720" cy="546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74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100" spc="-1" strike="noStrike">
                  <a:solidFill>
                    <a:srgbClr val="000000"/>
                  </a:solidFill>
                  <a:latin typeface="Bookman Old Style"/>
                </a:rPr>
                <a:t>KASUBAG 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74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100" spc="-1" strike="noStrike">
                  <a:solidFill>
                    <a:srgbClr val="000000"/>
                  </a:solidFill>
                  <a:latin typeface="Bookman Old Style"/>
                </a:rPr>
                <a:t>TATA USAHA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67"/>
            <p:cNvSpPr/>
            <p:nvPr/>
          </p:nvSpPr>
          <p:spPr>
            <a:xfrm>
              <a:off x="3031560" y="2533320"/>
              <a:ext cx="5745960" cy="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Line 69"/>
            <p:cNvSpPr/>
            <p:nvPr/>
          </p:nvSpPr>
          <p:spPr>
            <a:xfrm>
              <a:off x="8777520" y="2533320"/>
              <a:ext cx="0" cy="229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Line 90"/>
            <p:cNvSpPr/>
            <p:nvPr/>
          </p:nvSpPr>
          <p:spPr>
            <a:xfrm>
              <a:off x="5904360" y="2142720"/>
              <a:ext cx="0" cy="2301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Line 69"/>
            <p:cNvSpPr/>
            <p:nvPr/>
          </p:nvSpPr>
          <p:spPr>
            <a:xfrm>
              <a:off x="3031560" y="2533320"/>
              <a:ext cx="0" cy="229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Text Box 6"/>
            <p:cNvSpPr/>
            <p:nvPr/>
          </p:nvSpPr>
          <p:spPr>
            <a:xfrm>
              <a:off x="6400440" y="4686120"/>
              <a:ext cx="3169800" cy="7761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74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Bookman Old Style"/>
                </a:rPr>
                <a:t>SEKSI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74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Bookman Old Style"/>
                </a:rPr>
                <a:t>PENGENDALIAN 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74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Bookman Old Style"/>
                </a:rPr>
                <a:t>MUTU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67"/>
            <p:cNvSpPr/>
            <p:nvPr/>
          </p:nvSpPr>
          <p:spPr>
            <a:xfrm flipV="1">
              <a:off x="3898080" y="4448880"/>
              <a:ext cx="4086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69"/>
            <p:cNvSpPr/>
            <p:nvPr/>
          </p:nvSpPr>
          <p:spPr>
            <a:xfrm>
              <a:off x="7984800" y="4448880"/>
              <a:ext cx="0" cy="229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Text Box 6"/>
            <p:cNvSpPr/>
            <p:nvPr/>
          </p:nvSpPr>
          <p:spPr>
            <a:xfrm>
              <a:off x="2238840" y="4687560"/>
              <a:ext cx="3549960" cy="546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74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Bookman Old Style"/>
                </a:rPr>
                <a:t>SEKSI 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74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Bookman Old Style"/>
                </a:rPr>
                <a:t>PELAYANAN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69"/>
            <p:cNvSpPr/>
            <p:nvPr/>
          </p:nvSpPr>
          <p:spPr>
            <a:xfrm>
              <a:off x="3891600" y="4448880"/>
              <a:ext cx="0" cy="229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Text Box 17"/>
            <p:cNvSpPr/>
            <p:nvPr/>
          </p:nvSpPr>
          <p:spPr>
            <a:xfrm>
              <a:off x="2057400" y="2741760"/>
              <a:ext cx="1980720" cy="426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Bookman Old Style"/>
                </a:rPr>
                <a:t>KELOMPOK JABATAN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Bookman Old Style"/>
                </a:rPr>
                <a:t>FUNGSIONAL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18"/>
            <p:cNvSpPr/>
            <p:nvPr/>
          </p:nvSpPr>
          <p:spPr>
            <a:xfrm>
              <a:off x="2057400" y="3364920"/>
              <a:ext cx="198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19"/>
            <p:cNvSpPr/>
            <p:nvPr/>
          </p:nvSpPr>
          <p:spPr>
            <a:xfrm>
              <a:off x="2057400" y="3561120"/>
              <a:ext cx="198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20"/>
            <p:cNvSpPr/>
            <p:nvPr/>
          </p:nvSpPr>
          <p:spPr>
            <a:xfrm>
              <a:off x="2057400" y="3736800"/>
              <a:ext cx="198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Line 21"/>
            <p:cNvSpPr/>
            <p:nvPr/>
          </p:nvSpPr>
          <p:spPr>
            <a:xfrm flipV="1">
              <a:off x="2057400" y="3145320"/>
              <a:ext cx="0" cy="59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Line 22"/>
            <p:cNvSpPr/>
            <p:nvPr/>
          </p:nvSpPr>
          <p:spPr>
            <a:xfrm flipV="1">
              <a:off x="2342160" y="3145320"/>
              <a:ext cx="0" cy="59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23"/>
            <p:cNvSpPr/>
            <p:nvPr/>
          </p:nvSpPr>
          <p:spPr>
            <a:xfrm flipV="1">
              <a:off x="4038480" y="3145320"/>
              <a:ext cx="0" cy="59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24"/>
            <p:cNvSpPr/>
            <p:nvPr/>
          </p:nvSpPr>
          <p:spPr>
            <a:xfrm flipV="1">
              <a:off x="3161520" y="3165120"/>
              <a:ext cx="0" cy="569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25"/>
            <p:cNvSpPr/>
            <p:nvPr/>
          </p:nvSpPr>
          <p:spPr>
            <a:xfrm flipV="1">
              <a:off x="3458520" y="3156120"/>
              <a:ext cx="0" cy="59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26"/>
            <p:cNvSpPr/>
            <p:nvPr/>
          </p:nvSpPr>
          <p:spPr>
            <a:xfrm flipV="1">
              <a:off x="3741480" y="3156120"/>
              <a:ext cx="0" cy="59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27"/>
            <p:cNvSpPr/>
            <p:nvPr/>
          </p:nvSpPr>
          <p:spPr>
            <a:xfrm flipV="1">
              <a:off x="2878560" y="3155760"/>
              <a:ext cx="0" cy="569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28"/>
            <p:cNvSpPr/>
            <p:nvPr/>
          </p:nvSpPr>
          <p:spPr>
            <a:xfrm flipV="1">
              <a:off x="2595960" y="3155760"/>
              <a:ext cx="0" cy="569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7" name="Text Box 31"/>
          <p:cNvSpPr/>
          <p:nvPr/>
        </p:nvSpPr>
        <p:spPr>
          <a:xfrm>
            <a:off x="1371600" y="976320"/>
            <a:ext cx="26431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marL="228600" indent="-2286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Bookman Old Style"/>
              <a:buAutoNum type="alphaU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man Old Style"/>
              </a:rPr>
              <a:t>UPTD LABORATORIUM KESEHATAN DAERAH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Footer Placeholder 2"/>
          <p:cNvSpPr/>
          <p:nvPr/>
        </p:nvSpPr>
        <p:spPr>
          <a:xfrm>
            <a:off x="4060800" y="7081920"/>
            <a:ext cx="37670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- 124 -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ext Box 31"/>
          <p:cNvSpPr/>
          <p:nvPr/>
        </p:nvSpPr>
        <p:spPr>
          <a:xfrm>
            <a:off x="1371600" y="1068480"/>
            <a:ext cx="2514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Bookman Old Style"/>
              <a:buAutoNum type="alphaU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Bookman Old Style"/>
              </a:rPr>
              <a:t>UPTD PENGELOLAAN  DAERAH ALIRAN SUNGAI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Bookman Old Style"/>
              <a:buAutoNum type="alphaU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Group 43"/>
          <p:cNvGrpSpPr/>
          <p:nvPr/>
        </p:nvGrpSpPr>
        <p:grpSpPr>
          <a:xfrm>
            <a:off x="2514600" y="2828880"/>
            <a:ext cx="6937200" cy="3034080"/>
            <a:chOff x="2514600" y="2828880"/>
            <a:chExt cx="6937200" cy="3034080"/>
          </a:xfrm>
        </p:grpSpPr>
        <p:sp>
          <p:nvSpPr>
            <p:cNvPr id="421" name="Text Box 6"/>
            <p:cNvSpPr/>
            <p:nvPr/>
          </p:nvSpPr>
          <p:spPr>
            <a:xfrm>
              <a:off x="7669080" y="3448080"/>
              <a:ext cx="1782720" cy="505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000" spc="-1" strike="noStrike">
                  <a:solidFill>
                    <a:srgbClr val="000000"/>
                  </a:solidFill>
                  <a:latin typeface="Bookman Old Style"/>
                </a:rPr>
                <a:t>KASUBAG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000" spc="-1" strike="noStrike">
                  <a:solidFill>
                    <a:srgbClr val="000000"/>
                  </a:solidFill>
                  <a:latin typeface="Bookman Old Style"/>
                </a:rPr>
                <a:t>TATA USAHA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67"/>
            <p:cNvSpPr/>
            <p:nvPr/>
          </p:nvSpPr>
          <p:spPr>
            <a:xfrm>
              <a:off x="3390840" y="3213000"/>
              <a:ext cx="5169600" cy="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37440" bIns="-374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9"/>
            <p:cNvSpPr/>
            <p:nvPr/>
          </p:nvSpPr>
          <p:spPr>
            <a:xfrm>
              <a:off x="8560800" y="321300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90"/>
            <p:cNvSpPr/>
            <p:nvPr/>
          </p:nvSpPr>
          <p:spPr>
            <a:xfrm>
              <a:off x="5975640" y="2828880"/>
              <a:ext cx="0" cy="2290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9"/>
            <p:cNvSpPr/>
            <p:nvPr/>
          </p:nvSpPr>
          <p:spPr>
            <a:xfrm>
              <a:off x="3390840" y="321300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Text Box 6"/>
            <p:cNvSpPr/>
            <p:nvPr/>
          </p:nvSpPr>
          <p:spPr>
            <a:xfrm>
              <a:off x="6421320" y="5355360"/>
              <a:ext cx="2852640" cy="505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SEKSI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PEMANFAATAN AIR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7"/>
            <p:cNvSpPr/>
            <p:nvPr/>
          </p:nvSpPr>
          <p:spPr>
            <a:xfrm flipV="1">
              <a:off x="4170960" y="5119560"/>
              <a:ext cx="36766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3920" bIns="-43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9"/>
            <p:cNvSpPr/>
            <p:nvPr/>
          </p:nvSpPr>
          <p:spPr>
            <a:xfrm>
              <a:off x="7847640" y="511956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Text Box 6"/>
            <p:cNvSpPr/>
            <p:nvPr/>
          </p:nvSpPr>
          <p:spPr>
            <a:xfrm>
              <a:off x="2678040" y="5357160"/>
              <a:ext cx="2852640" cy="505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SEKSI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OPERASI DAN PEMELIHARAAN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9"/>
            <p:cNvSpPr/>
            <p:nvPr/>
          </p:nvSpPr>
          <p:spPr>
            <a:xfrm>
              <a:off x="4193280" y="511956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Text Box 17"/>
            <p:cNvSpPr/>
            <p:nvPr/>
          </p:nvSpPr>
          <p:spPr>
            <a:xfrm>
              <a:off x="2514600" y="3441600"/>
              <a:ext cx="1782720" cy="396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KELOMPOK JABATAN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FUNGSIONAL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Line 18"/>
            <p:cNvSpPr/>
            <p:nvPr/>
          </p:nvSpPr>
          <p:spPr>
            <a:xfrm>
              <a:off x="2514600" y="4062960"/>
              <a:ext cx="1782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19"/>
            <p:cNvSpPr/>
            <p:nvPr/>
          </p:nvSpPr>
          <p:spPr>
            <a:xfrm>
              <a:off x="2514600" y="4258440"/>
              <a:ext cx="1782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20"/>
            <p:cNvSpPr/>
            <p:nvPr/>
          </p:nvSpPr>
          <p:spPr>
            <a:xfrm>
              <a:off x="2514600" y="4433040"/>
              <a:ext cx="1782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21"/>
            <p:cNvSpPr/>
            <p:nvPr/>
          </p:nvSpPr>
          <p:spPr>
            <a:xfrm flipV="1">
              <a:off x="2514600" y="3856680"/>
              <a:ext cx="0" cy="58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22"/>
            <p:cNvSpPr/>
            <p:nvPr/>
          </p:nvSpPr>
          <p:spPr>
            <a:xfrm flipV="1">
              <a:off x="2770560" y="3856680"/>
              <a:ext cx="0" cy="58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23"/>
            <p:cNvSpPr/>
            <p:nvPr/>
          </p:nvSpPr>
          <p:spPr>
            <a:xfrm flipV="1">
              <a:off x="4296960" y="3856680"/>
              <a:ext cx="0" cy="58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24"/>
            <p:cNvSpPr/>
            <p:nvPr/>
          </p:nvSpPr>
          <p:spPr>
            <a:xfrm flipV="1">
              <a:off x="3507840" y="3865680"/>
              <a:ext cx="0" cy="567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25"/>
            <p:cNvSpPr/>
            <p:nvPr/>
          </p:nvSpPr>
          <p:spPr>
            <a:xfrm flipV="1">
              <a:off x="3775320" y="3856680"/>
              <a:ext cx="0" cy="58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26"/>
            <p:cNvSpPr/>
            <p:nvPr/>
          </p:nvSpPr>
          <p:spPr>
            <a:xfrm flipV="1">
              <a:off x="4029840" y="3856680"/>
              <a:ext cx="0" cy="58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27"/>
            <p:cNvSpPr/>
            <p:nvPr/>
          </p:nvSpPr>
          <p:spPr>
            <a:xfrm flipV="1">
              <a:off x="3253320" y="3856320"/>
              <a:ext cx="0" cy="567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Line 28"/>
            <p:cNvSpPr/>
            <p:nvPr/>
          </p:nvSpPr>
          <p:spPr>
            <a:xfrm flipV="1">
              <a:off x="2999160" y="3856320"/>
              <a:ext cx="0" cy="567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" name="Text Box 21"/>
          <p:cNvSpPr/>
          <p:nvPr/>
        </p:nvSpPr>
        <p:spPr>
          <a:xfrm>
            <a:off x="5257800" y="2476440"/>
            <a:ext cx="1403280" cy="344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Bookman Old Style"/>
              </a:rPr>
              <a:t>KEPALA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Footer Placeholder 2"/>
          <p:cNvSpPr/>
          <p:nvPr/>
        </p:nvSpPr>
        <p:spPr>
          <a:xfrm>
            <a:off x="4060800" y="7081920"/>
            <a:ext cx="37670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- 125 -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31"/>
          <p:cNvSpPr/>
          <p:nvPr/>
        </p:nvSpPr>
        <p:spPr>
          <a:xfrm>
            <a:off x="1371600" y="1068480"/>
            <a:ext cx="27558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Bookman Old Style"/>
              <a:buAutoNum type="alphaU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Bookman Old Style"/>
              </a:rPr>
              <a:t>UPTD PENGELOLAAN JALAN DAN JEMBATAN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21"/>
          <p:cNvSpPr/>
          <p:nvPr/>
        </p:nvSpPr>
        <p:spPr>
          <a:xfrm>
            <a:off x="5237280" y="2481120"/>
            <a:ext cx="1403280" cy="344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Bookman Old Style"/>
              </a:rPr>
              <a:t>KEPALA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" name="Group 43"/>
          <p:cNvGrpSpPr/>
          <p:nvPr/>
        </p:nvGrpSpPr>
        <p:grpSpPr>
          <a:xfrm>
            <a:off x="2470320" y="2851200"/>
            <a:ext cx="6938640" cy="3032640"/>
            <a:chOff x="2470320" y="2851200"/>
            <a:chExt cx="6938640" cy="3032640"/>
          </a:xfrm>
        </p:grpSpPr>
        <p:sp>
          <p:nvSpPr>
            <p:cNvPr id="448" name="Text Box 6"/>
            <p:cNvSpPr/>
            <p:nvPr/>
          </p:nvSpPr>
          <p:spPr>
            <a:xfrm>
              <a:off x="7626240" y="3470040"/>
              <a:ext cx="1782720" cy="505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000" spc="-1" strike="noStrike">
                  <a:solidFill>
                    <a:srgbClr val="000000"/>
                  </a:solidFill>
                  <a:latin typeface="Bookman Old Style"/>
                </a:rPr>
                <a:t>KASUBAG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000" spc="-1" strike="noStrike">
                  <a:solidFill>
                    <a:srgbClr val="000000"/>
                  </a:solidFill>
                  <a:latin typeface="Bookman Old Style"/>
                </a:rPr>
                <a:t>TATA USAHA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67"/>
            <p:cNvSpPr/>
            <p:nvPr/>
          </p:nvSpPr>
          <p:spPr>
            <a:xfrm>
              <a:off x="3346920" y="3235320"/>
              <a:ext cx="5170680" cy="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37440" bIns="-374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69"/>
            <p:cNvSpPr/>
            <p:nvPr/>
          </p:nvSpPr>
          <p:spPr>
            <a:xfrm>
              <a:off x="8517600" y="323532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90"/>
            <p:cNvSpPr/>
            <p:nvPr/>
          </p:nvSpPr>
          <p:spPr>
            <a:xfrm>
              <a:off x="5932080" y="2851200"/>
              <a:ext cx="0" cy="2289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69"/>
            <p:cNvSpPr/>
            <p:nvPr/>
          </p:nvSpPr>
          <p:spPr>
            <a:xfrm>
              <a:off x="3346920" y="323532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Text Box 6"/>
            <p:cNvSpPr/>
            <p:nvPr/>
          </p:nvSpPr>
          <p:spPr>
            <a:xfrm>
              <a:off x="6378480" y="5376600"/>
              <a:ext cx="2852640" cy="505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SEKSI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BAHAN DAN PERALATAN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Line 67"/>
            <p:cNvSpPr/>
            <p:nvPr/>
          </p:nvSpPr>
          <p:spPr>
            <a:xfrm flipV="1">
              <a:off x="4127040" y="5140440"/>
              <a:ext cx="36774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3920" bIns="-43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69"/>
            <p:cNvSpPr/>
            <p:nvPr/>
          </p:nvSpPr>
          <p:spPr>
            <a:xfrm>
              <a:off x="7804440" y="514044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Text Box 6"/>
            <p:cNvSpPr/>
            <p:nvPr/>
          </p:nvSpPr>
          <p:spPr>
            <a:xfrm>
              <a:off x="2633760" y="5378040"/>
              <a:ext cx="2852640" cy="505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SEKSI PEMELIHARAAN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JALAN DAN JEMBATAN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69"/>
            <p:cNvSpPr/>
            <p:nvPr/>
          </p:nvSpPr>
          <p:spPr>
            <a:xfrm>
              <a:off x="4149000" y="514044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Text Box 17"/>
            <p:cNvSpPr/>
            <p:nvPr/>
          </p:nvSpPr>
          <p:spPr>
            <a:xfrm>
              <a:off x="2470320" y="3463560"/>
              <a:ext cx="1782720" cy="396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KELOMPOK JABATAN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FUNGSIONAL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18"/>
            <p:cNvSpPr/>
            <p:nvPr/>
          </p:nvSpPr>
          <p:spPr>
            <a:xfrm>
              <a:off x="2470320" y="4084560"/>
              <a:ext cx="178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19"/>
            <p:cNvSpPr/>
            <p:nvPr/>
          </p:nvSpPr>
          <p:spPr>
            <a:xfrm>
              <a:off x="2470320" y="4280040"/>
              <a:ext cx="178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20"/>
            <p:cNvSpPr/>
            <p:nvPr/>
          </p:nvSpPr>
          <p:spPr>
            <a:xfrm>
              <a:off x="2470320" y="4454640"/>
              <a:ext cx="178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21"/>
            <p:cNvSpPr/>
            <p:nvPr/>
          </p:nvSpPr>
          <p:spPr>
            <a:xfrm flipV="1">
              <a:off x="2470320" y="3877920"/>
              <a:ext cx="0" cy="58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22"/>
            <p:cNvSpPr/>
            <p:nvPr/>
          </p:nvSpPr>
          <p:spPr>
            <a:xfrm flipV="1">
              <a:off x="2726280" y="3877920"/>
              <a:ext cx="0" cy="58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Line 23"/>
            <p:cNvSpPr/>
            <p:nvPr/>
          </p:nvSpPr>
          <p:spPr>
            <a:xfrm flipV="1">
              <a:off x="4253040" y="3877920"/>
              <a:ext cx="0" cy="58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Line 24"/>
            <p:cNvSpPr/>
            <p:nvPr/>
          </p:nvSpPr>
          <p:spPr>
            <a:xfrm flipV="1">
              <a:off x="3463920" y="3888000"/>
              <a:ext cx="0" cy="566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25"/>
            <p:cNvSpPr/>
            <p:nvPr/>
          </p:nvSpPr>
          <p:spPr>
            <a:xfrm flipV="1">
              <a:off x="3731400" y="3877920"/>
              <a:ext cx="0" cy="58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26"/>
            <p:cNvSpPr/>
            <p:nvPr/>
          </p:nvSpPr>
          <p:spPr>
            <a:xfrm flipV="1">
              <a:off x="3985560" y="3877920"/>
              <a:ext cx="0" cy="58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27"/>
            <p:cNvSpPr/>
            <p:nvPr/>
          </p:nvSpPr>
          <p:spPr>
            <a:xfrm flipV="1">
              <a:off x="3209400" y="3878280"/>
              <a:ext cx="0" cy="566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28"/>
            <p:cNvSpPr/>
            <p:nvPr/>
          </p:nvSpPr>
          <p:spPr>
            <a:xfrm flipV="1">
              <a:off x="2954880" y="3878280"/>
              <a:ext cx="0" cy="566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0" name="Footer Placeholder 2"/>
          <p:cNvSpPr/>
          <p:nvPr/>
        </p:nvSpPr>
        <p:spPr>
          <a:xfrm>
            <a:off x="4060800" y="7081920"/>
            <a:ext cx="37670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- 126 -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Line 4"/>
          <p:cNvSpPr/>
          <p:nvPr/>
        </p:nvSpPr>
        <p:spPr>
          <a:xfrm>
            <a:off x="5943600" y="2898720"/>
            <a:ext cx="9360" cy="2060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5"/>
          <p:cNvSpPr/>
          <p:nvPr/>
        </p:nvSpPr>
        <p:spPr>
          <a:xfrm>
            <a:off x="7924680" y="2871720"/>
            <a:ext cx="1981440" cy="63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ts val="2024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SUB BAGIA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024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TATA USAHA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 Box 6"/>
          <p:cNvSpPr/>
          <p:nvPr/>
        </p:nvSpPr>
        <p:spPr>
          <a:xfrm>
            <a:off x="2003400" y="3448080"/>
            <a:ext cx="1981080" cy="420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KELOMPOK JABATA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FUNGSIONAL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7"/>
          <p:cNvSpPr/>
          <p:nvPr/>
        </p:nvSpPr>
        <p:spPr>
          <a:xfrm>
            <a:off x="2003400" y="411624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-57600" bIns="-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Line 8"/>
          <p:cNvSpPr/>
          <p:nvPr/>
        </p:nvSpPr>
        <p:spPr>
          <a:xfrm>
            <a:off x="2003400" y="4338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-57600" bIns="-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Line 9"/>
          <p:cNvSpPr/>
          <p:nvPr/>
        </p:nvSpPr>
        <p:spPr>
          <a:xfrm>
            <a:off x="2003400" y="4546440"/>
            <a:ext cx="1981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-57600" bIns="-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Line 10"/>
          <p:cNvSpPr/>
          <p:nvPr/>
        </p:nvSpPr>
        <p:spPr>
          <a:xfrm flipV="1">
            <a:off x="2003400" y="3882960"/>
            <a:ext cx="0" cy="66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Line 11"/>
          <p:cNvSpPr/>
          <p:nvPr/>
        </p:nvSpPr>
        <p:spPr>
          <a:xfrm flipV="1">
            <a:off x="2287440" y="3882960"/>
            <a:ext cx="0" cy="66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Line 12"/>
          <p:cNvSpPr/>
          <p:nvPr/>
        </p:nvSpPr>
        <p:spPr>
          <a:xfrm flipV="1">
            <a:off x="3984480" y="3882960"/>
            <a:ext cx="0" cy="66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Line 13"/>
          <p:cNvSpPr/>
          <p:nvPr/>
        </p:nvSpPr>
        <p:spPr>
          <a:xfrm flipV="1">
            <a:off x="3106800" y="3895560"/>
            <a:ext cx="0" cy="641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Line 14"/>
          <p:cNvSpPr/>
          <p:nvPr/>
        </p:nvSpPr>
        <p:spPr>
          <a:xfrm flipV="1">
            <a:off x="3405240" y="3882960"/>
            <a:ext cx="0" cy="66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Line 15"/>
          <p:cNvSpPr/>
          <p:nvPr/>
        </p:nvSpPr>
        <p:spPr>
          <a:xfrm flipV="1">
            <a:off x="3687840" y="3882960"/>
            <a:ext cx="0" cy="66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Line 16"/>
          <p:cNvSpPr/>
          <p:nvPr/>
        </p:nvSpPr>
        <p:spPr>
          <a:xfrm flipV="1">
            <a:off x="2824200" y="388296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Line 17"/>
          <p:cNvSpPr/>
          <p:nvPr/>
        </p:nvSpPr>
        <p:spPr>
          <a:xfrm flipV="1">
            <a:off x="2541600" y="388296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Line 18"/>
          <p:cNvSpPr/>
          <p:nvPr/>
        </p:nvSpPr>
        <p:spPr>
          <a:xfrm>
            <a:off x="2994120" y="3195720"/>
            <a:ext cx="4919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-57600" bIns="-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Line 19"/>
          <p:cNvSpPr/>
          <p:nvPr/>
        </p:nvSpPr>
        <p:spPr>
          <a:xfrm>
            <a:off x="2984400" y="3189240"/>
            <a:ext cx="0" cy="2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Line 20"/>
          <p:cNvSpPr/>
          <p:nvPr/>
        </p:nvSpPr>
        <p:spPr>
          <a:xfrm>
            <a:off x="3822840" y="4971960"/>
            <a:ext cx="4228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-57600" bIns="-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 Box 21"/>
          <p:cNvSpPr/>
          <p:nvPr/>
        </p:nvSpPr>
        <p:spPr>
          <a:xfrm>
            <a:off x="5237280" y="2570040"/>
            <a:ext cx="1403280" cy="344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Bookman Old Style"/>
              </a:rPr>
              <a:t>KEPALA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 Box 22"/>
          <p:cNvSpPr/>
          <p:nvPr/>
        </p:nvSpPr>
        <p:spPr>
          <a:xfrm>
            <a:off x="2620800" y="5135400"/>
            <a:ext cx="2202120" cy="497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SEKSI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PENGUJIAN BAHA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Line 23"/>
          <p:cNvSpPr/>
          <p:nvPr/>
        </p:nvSpPr>
        <p:spPr>
          <a:xfrm>
            <a:off x="3822840" y="4971960"/>
            <a:ext cx="0" cy="16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Line 24"/>
          <p:cNvSpPr/>
          <p:nvPr/>
        </p:nvSpPr>
        <p:spPr>
          <a:xfrm>
            <a:off x="8061480" y="4971960"/>
            <a:ext cx="0" cy="16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Text Box 26"/>
          <p:cNvSpPr/>
          <p:nvPr/>
        </p:nvSpPr>
        <p:spPr>
          <a:xfrm>
            <a:off x="6954840" y="5137200"/>
            <a:ext cx="2212920" cy="497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SEKSI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PENGUJIAN KONSTRUKSI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31"/>
          <p:cNvSpPr/>
          <p:nvPr/>
        </p:nvSpPr>
        <p:spPr>
          <a:xfrm>
            <a:off x="1371600" y="1068480"/>
            <a:ext cx="358128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marL="228600" indent="-22860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Bookman Old Style"/>
              <a:buAutoNum type="alphaU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Bookman Old Style"/>
              </a:rPr>
              <a:t>UPTD PENGUJIAN BAHAN, KONTRUKSI BANGUNAN DAN INFORMASI KONTRUKSI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Footer Placeholder 2"/>
          <p:cNvSpPr/>
          <p:nvPr/>
        </p:nvSpPr>
        <p:spPr>
          <a:xfrm>
            <a:off x="4060800" y="7081920"/>
            <a:ext cx="37670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- 127 -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Text Box 31"/>
          <p:cNvSpPr/>
          <p:nvPr/>
        </p:nvSpPr>
        <p:spPr>
          <a:xfrm>
            <a:off x="1371600" y="1068480"/>
            <a:ext cx="318456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Bookman Old Style"/>
              <a:buAutoNum type="alphaU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Bookman Old Style"/>
              </a:rPr>
              <a:t>UPTD PERLINDUNGAN SOSIAL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6" name="Group 43"/>
          <p:cNvGrpSpPr/>
          <p:nvPr/>
        </p:nvGrpSpPr>
        <p:grpSpPr>
          <a:xfrm>
            <a:off x="2459160" y="2852640"/>
            <a:ext cx="6939000" cy="3033000"/>
            <a:chOff x="2459160" y="2852640"/>
            <a:chExt cx="6939000" cy="3033000"/>
          </a:xfrm>
        </p:grpSpPr>
        <p:sp>
          <p:nvSpPr>
            <p:cNvPr id="497" name="Text Box 6"/>
            <p:cNvSpPr/>
            <p:nvPr/>
          </p:nvSpPr>
          <p:spPr>
            <a:xfrm>
              <a:off x="7615440" y="3471480"/>
              <a:ext cx="1782720" cy="505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000" spc="-1" strike="noStrike">
                  <a:solidFill>
                    <a:srgbClr val="000000"/>
                  </a:solidFill>
                  <a:latin typeface="Bookman Old Style"/>
                </a:rPr>
                <a:t>KASUBAG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000" spc="-1" strike="noStrike">
                  <a:solidFill>
                    <a:srgbClr val="000000"/>
                  </a:solidFill>
                  <a:latin typeface="Bookman Old Style"/>
                </a:rPr>
                <a:t>TATA USAHA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Line 67"/>
            <p:cNvSpPr/>
            <p:nvPr/>
          </p:nvSpPr>
          <p:spPr>
            <a:xfrm>
              <a:off x="3335760" y="3236760"/>
              <a:ext cx="5171040" cy="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37440" bIns="-374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69"/>
            <p:cNvSpPr/>
            <p:nvPr/>
          </p:nvSpPr>
          <p:spPr>
            <a:xfrm>
              <a:off x="8506800" y="323676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0"/>
            <p:cNvSpPr/>
            <p:nvPr/>
          </p:nvSpPr>
          <p:spPr>
            <a:xfrm>
              <a:off x="5921280" y="2852640"/>
              <a:ext cx="0" cy="228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69"/>
            <p:cNvSpPr/>
            <p:nvPr/>
          </p:nvSpPr>
          <p:spPr>
            <a:xfrm>
              <a:off x="3335760" y="323676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Text Box 6"/>
            <p:cNvSpPr/>
            <p:nvPr/>
          </p:nvSpPr>
          <p:spPr>
            <a:xfrm>
              <a:off x="6367680" y="5378040"/>
              <a:ext cx="2852640" cy="505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SEKSI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PELAYANAN DAN PERAWATAN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67"/>
            <p:cNvSpPr/>
            <p:nvPr/>
          </p:nvSpPr>
          <p:spPr>
            <a:xfrm flipV="1">
              <a:off x="4115880" y="5142240"/>
              <a:ext cx="36774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3920" bIns="-43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69"/>
            <p:cNvSpPr/>
            <p:nvPr/>
          </p:nvSpPr>
          <p:spPr>
            <a:xfrm>
              <a:off x="7793640" y="514224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Text Box 6"/>
            <p:cNvSpPr/>
            <p:nvPr/>
          </p:nvSpPr>
          <p:spPr>
            <a:xfrm>
              <a:off x="2622600" y="5379840"/>
              <a:ext cx="2852640" cy="505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SEKSI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PENERIMAAN DAN PENYALURAN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69"/>
            <p:cNvSpPr/>
            <p:nvPr/>
          </p:nvSpPr>
          <p:spPr>
            <a:xfrm>
              <a:off x="4138200" y="514224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Text Box 17"/>
            <p:cNvSpPr/>
            <p:nvPr/>
          </p:nvSpPr>
          <p:spPr>
            <a:xfrm>
              <a:off x="2459160" y="3465000"/>
              <a:ext cx="1782720" cy="396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KELOMPOK JABATAN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FUNGSIONAL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Line 18"/>
            <p:cNvSpPr/>
            <p:nvPr/>
          </p:nvSpPr>
          <p:spPr>
            <a:xfrm>
              <a:off x="2459160" y="4086360"/>
              <a:ext cx="178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Line 19"/>
            <p:cNvSpPr/>
            <p:nvPr/>
          </p:nvSpPr>
          <p:spPr>
            <a:xfrm>
              <a:off x="2459160" y="4281480"/>
              <a:ext cx="178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20"/>
            <p:cNvSpPr/>
            <p:nvPr/>
          </p:nvSpPr>
          <p:spPr>
            <a:xfrm>
              <a:off x="2459160" y="4456440"/>
              <a:ext cx="178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21"/>
            <p:cNvSpPr/>
            <p:nvPr/>
          </p:nvSpPr>
          <p:spPr>
            <a:xfrm flipV="1">
              <a:off x="2459160" y="3879720"/>
              <a:ext cx="0" cy="58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22"/>
            <p:cNvSpPr/>
            <p:nvPr/>
          </p:nvSpPr>
          <p:spPr>
            <a:xfrm flipV="1">
              <a:off x="2715480" y="3879720"/>
              <a:ext cx="0" cy="58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23"/>
            <p:cNvSpPr/>
            <p:nvPr/>
          </p:nvSpPr>
          <p:spPr>
            <a:xfrm flipV="1">
              <a:off x="4242240" y="3879720"/>
              <a:ext cx="0" cy="58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24"/>
            <p:cNvSpPr/>
            <p:nvPr/>
          </p:nvSpPr>
          <p:spPr>
            <a:xfrm flipV="1">
              <a:off x="3452760" y="3889440"/>
              <a:ext cx="0" cy="566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25"/>
            <p:cNvSpPr/>
            <p:nvPr/>
          </p:nvSpPr>
          <p:spPr>
            <a:xfrm flipV="1">
              <a:off x="3720240" y="3879720"/>
              <a:ext cx="0" cy="58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26"/>
            <p:cNvSpPr/>
            <p:nvPr/>
          </p:nvSpPr>
          <p:spPr>
            <a:xfrm flipV="1">
              <a:off x="3974760" y="3879720"/>
              <a:ext cx="0" cy="58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27"/>
            <p:cNvSpPr/>
            <p:nvPr/>
          </p:nvSpPr>
          <p:spPr>
            <a:xfrm flipV="1">
              <a:off x="3198240" y="3879720"/>
              <a:ext cx="0" cy="566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28"/>
            <p:cNvSpPr/>
            <p:nvPr/>
          </p:nvSpPr>
          <p:spPr>
            <a:xfrm flipV="1">
              <a:off x="2943720" y="3879720"/>
              <a:ext cx="0" cy="566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" name="Text Box 21"/>
          <p:cNvSpPr/>
          <p:nvPr/>
        </p:nvSpPr>
        <p:spPr>
          <a:xfrm>
            <a:off x="5237280" y="2514600"/>
            <a:ext cx="1403280" cy="344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Bookman Old Style"/>
              </a:rPr>
              <a:t>KEPALA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Footer Placeholder 2"/>
          <p:cNvSpPr/>
          <p:nvPr/>
        </p:nvSpPr>
        <p:spPr>
          <a:xfrm>
            <a:off x="4060800" y="7081920"/>
            <a:ext cx="37670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- 128 -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 Box 31"/>
          <p:cNvSpPr/>
          <p:nvPr/>
        </p:nvSpPr>
        <p:spPr>
          <a:xfrm>
            <a:off x="1371600" y="1068480"/>
            <a:ext cx="31845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Bookman Old Style"/>
              <a:buAutoNum type="alphaU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Bookman Old Style"/>
              </a:rPr>
              <a:t>UPTD  PANTI SOSIAL  REHABILITASI TUNA SOSIAL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21"/>
          <p:cNvSpPr/>
          <p:nvPr/>
        </p:nvSpPr>
        <p:spPr>
          <a:xfrm>
            <a:off x="5194440" y="2119320"/>
            <a:ext cx="1403280" cy="344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Bookman Old Style"/>
              </a:rPr>
              <a:t>KEPALA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Group 1"/>
          <p:cNvGrpSpPr/>
          <p:nvPr/>
        </p:nvGrpSpPr>
        <p:grpSpPr>
          <a:xfrm>
            <a:off x="2433600" y="2470320"/>
            <a:ext cx="6939000" cy="3032640"/>
            <a:chOff x="2433600" y="2470320"/>
            <a:chExt cx="6939000" cy="3032640"/>
          </a:xfrm>
        </p:grpSpPr>
        <p:sp>
          <p:nvSpPr>
            <p:cNvPr id="524" name="Text Box 6"/>
            <p:cNvSpPr/>
            <p:nvPr/>
          </p:nvSpPr>
          <p:spPr>
            <a:xfrm>
              <a:off x="7589880" y="3089160"/>
              <a:ext cx="1782720" cy="505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000" spc="-1" strike="noStrike">
                  <a:solidFill>
                    <a:srgbClr val="000000"/>
                  </a:solidFill>
                  <a:latin typeface="Bookman Old Style"/>
                </a:rPr>
                <a:t>KASUBAG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000" spc="-1" strike="noStrike">
                  <a:solidFill>
                    <a:srgbClr val="000000"/>
                  </a:solidFill>
                  <a:latin typeface="Bookman Old Style"/>
                </a:rPr>
                <a:t>TATA USAHA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67"/>
            <p:cNvSpPr/>
            <p:nvPr/>
          </p:nvSpPr>
          <p:spPr>
            <a:xfrm>
              <a:off x="3310200" y="2854440"/>
              <a:ext cx="5171040" cy="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37440" bIns="-374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69"/>
            <p:cNvSpPr/>
            <p:nvPr/>
          </p:nvSpPr>
          <p:spPr>
            <a:xfrm>
              <a:off x="8481240" y="285444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0"/>
            <p:cNvSpPr/>
            <p:nvPr/>
          </p:nvSpPr>
          <p:spPr>
            <a:xfrm>
              <a:off x="5895720" y="2470320"/>
              <a:ext cx="0" cy="228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69"/>
            <p:cNvSpPr/>
            <p:nvPr/>
          </p:nvSpPr>
          <p:spPr>
            <a:xfrm>
              <a:off x="3310200" y="285444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Text Box 6"/>
            <p:cNvSpPr/>
            <p:nvPr/>
          </p:nvSpPr>
          <p:spPr>
            <a:xfrm>
              <a:off x="6342120" y="4995720"/>
              <a:ext cx="2852640" cy="505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SEKSI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PEMULIHAN DAN PENGEMBANGAN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Line 67"/>
            <p:cNvSpPr/>
            <p:nvPr/>
          </p:nvSpPr>
          <p:spPr>
            <a:xfrm flipV="1">
              <a:off x="4090320" y="4759920"/>
              <a:ext cx="36774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3920" bIns="-43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Line 69"/>
            <p:cNvSpPr/>
            <p:nvPr/>
          </p:nvSpPr>
          <p:spPr>
            <a:xfrm>
              <a:off x="7768080" y="475992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Text Box 6"/>
            <p:cNvSpPr/>
            <p:nvPr/>
          </p:nvSpPr>
          <p:spPr>
            <a:xfrm>
              <a:off x="2597040" y="4997160"/>
              <a:ext cx="2852640" cy="505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SEKSI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PENERIMAAN DAN PENYALURAN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69"/>
            <p:cNvSpPr/>
            <p:nvPr/>
          </p:nvSpPr>
          <p:spPr>
            <a:xfrm>
              <a:off x="4112640" y="475992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Text Box 17"/>
            <p:cNvSpPr/>
            <p:nvPr/>
          </p:nvSpPr>
          <p:spPr>
            <a:xfrm>
              <a:off x="2433600" y="3082680"/>
              <a:ext cx="1782720" cy="396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KELOMPOK JABATAN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FUNGSIONAL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18"/>
            <p:cNvSpPr/>
            <p:nvPr/>
          </p:nvSpPr>
          <p:spPr>
            <a:xfrm>
              <a:off x="2433600" y="3704040"/>
              <a:ext cx="178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19"/>
            <p:cNvSpPr/>
            <p:nvPr/>
          </p:nvSpPr>
          <p:spPr>
            <a:xfrm>
              <a:off x="2433600" y="3899160"/>
              <a:ext cx="178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20"/>
            <p:cNvSpPr/>
            <p:nvPr/>
          </p:nvSpPr>
          <p:spPr>
            <a:xfrm>
              <a:off x="2433600" y="4073760"/>
              <a:ext cx="178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21"/>
            <p:cNvSpPr/>
            <p:nvPr/>
          </p:nvSpPr>
          <p:spPr>
            <a:xfrm flipV="1">
              <a:off x="2433600" y="3497040"/>
              <a:ext cx="0" cy="58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22"/>
            <p:cNvSpPr/>
            <p:nvPr/>
          </p:nvSpPr>
          <p:spPr>
            <a:xfrm flipV="1">
              <a:off x="2689920" y="3497040"/>
              <a:ext cx="0" cy="58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23"/>
            <p:cNvSpPr/>
            <p:nvPr/>
          </p:nvSpPr>
          <p:spPr>
            <a:xfrm flipV="1">
              <a:off x="4216680" y="3497040"/>
              <a:ext cx="0" cy="58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Line 24"/>
            <p:cNvSpPr/>
            <p:nvPr/>
          </p:nvSpPr>
          <p:spPr>
            <a:xfrm flipV="1">
              <a:off x="3427200" y="3507120"/>
              <a:ext cx="0" cy="566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Line 25"/>
            <p:cNvSpPr/>
            <p:nvPr/>
          </p:nvSpPr>
          <p:spPr>
            <a:xfrm flipV="1">
              <a:off x="3694680" y="3497040"/>
              <a:ext cx="0" cy="58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26"/>
            <p:cNvSpPr/>
            <p:nvPr/>
          </p:nvSpPr>
          <p:spPr>
            <a:xfrm flipV="1">
              <a:off x="3949200" y="3497040"/>
              <a:ext cx="0" cy="58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27"/>
            <p:cNvSpPr/>
            <p:nvPr/>
          </p:nvSpPr>
          <p:spPr>
            <a:xfrm flipV="1">
              <a:off x="3172680" y="3497400"/>
              <a:ext cx="0" cy="566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28"/>
            <p:cNvSpPr/>
            <p:nvPr/>
          </p:nvSpPr>
          <p:spPr>
            <a:xfrm flipV="1">
              <a:off x="2918160" y="3497400"/>
              <a:ext cx="0" cy="566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6" name="Footer Placeholder 2"/>
          <p:cNvSpPr/>
          <p:nvPr/>
        </p:nvSpPr>
        <p:spPr>
          <a:xfrm>
            <a:off x="4060800" y="7081920"/>
            <a:ext cx="37670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- 129 -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ext Box 31"/>
          <p:cNvSpPr/>
          <p:nvPr/>
        </p:nvSpPr>
        <p:spPr>
          <a:xfrm>
            <a:off x="1371600" y="1068480"/>
            <a:ext cx="318456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Bookman Old Style"/>
              <a:buAutoNum type="alphaU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Bookman Old Style"/>
              </a:rPr>
              <a:t>UPTD LATIHAN KERJA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21"/>
          <p:cNvSpPr/>
          <p:nvPr/>
        </p:nvSpPr>
        <p:spPr>
          <a:xfrm>
            <a:off x="5248440" y="2203560"/>
            <a:ext cx="1403280" cy="344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Bookman Old Style"/>
              </a:rPr>
              <a:t>KEPALA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9" name="Group 43"/>
          <p:cNvGrpSpPr/>
          <p:nvPr/>
        </p:nvGrpSpPr>
        <p:grpSpPr>
          <a:xfrm>
            <a:off x="2489040" y="2543040"/>
            <a:ext cx="6939000" cy="3034800"/>
            <a:chOff x="2489040" y="2543040"/>
            <a:chExt cx="6939000" cy="3034800"/>
          </a:xfrm>
        </p:grpSpPr>
        <p:sp>
          <p:nvSpPr>
            <p:cNvPr id="550" name="Text Box 6"/>
            <p:cNvSpPr/>
            <p:nvPr/>
          </p:nvSpPr>
          <p:spPr>
            <a:xfrm>
              <a:off x="7645320" y="3162240"/>
              <a:ext cx="1782720" cy="505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000" spc="-1" strike="noStrike">
                  <a:solidFill>
                    <a:srgbClr val="000000"/>
                  </a:solidFill>
                  <a:latin typeface="Bookman Old Style"/>
                </a:rPr>
                <a:t>KASUBAG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000" spc="-1" strike="noStrike">
                  <a:solidFill>
                    <a:srgbClr val="000000"/>
                  </a:solidFill>
                  <a:latin typeface="Bookman Old Style"/>
                </a:rPr>
                <a:t>TATA USAHA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67"/>
            <p:cNvSpPr/>
            <p:nvPr/>
          </p:nvSpPr>
          <p:spPr>
            <a:xfrm>
              <a:off x="3365640" y="2927520"/>
              <a:ext cx="5171040" cy="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37440" bIns="-374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Line 69"/>
            <p:cNvSpPr/>
            <p:nvPr/>
          </p:nvSpPr>
          <p:spPr>
            <a:xfrm>
              <a:off x="8536680" y="292752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Line 90"/>
            <p:cNvSpPr/>
            <p:nvPr/>
          </p:nvSpPr>
          <p:spPr>
            <a:xfrm>
              <a:off x="5951160" y="2543040"/>
              <a:ext cx="0" cy="2291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69"/>
            <p:cNvSpPr/>
            <p:nvPr/>
          </p:nvSpPr>
          <p:spPr>
            <a:xfrm>
              <a:off x="3365640" y="292752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Text Box 6"/>
            <p:cNvSpPr/>
            <p:nvPr/>
          </p:nvSpPr>
          <p:spPr>
            <a:xfrm>
              <a:off x="6397560" y="5070240"/>
              <a:ext cx="2852640" cy="505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SEKSI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PENGEMBANGAN DAN PEMASARAN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67"/>
            <p:cNvSpPr/>
            <p:nvPr/>
          </p:nvSpPr>
          <p:spPr>
            <a:xfrm flipV="1">
              <a:off x="4145760" y="4834440"/>
              <a:ext cx="36774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3920" bIns="-43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69"/>
            <p:cNvSpPr/>
            <p:nvPr/>
          </p:nvSpPr>
          <p:spPr>
            <a:xfrm>
              <a:off x="7823520" y="483444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Text Box 6"/>
            <p:cNvSpPr/>
            <p:nvPr/>
          </p:nvSpPr>
          <p:spPr>
            <a:xfrm>
              <a:off x="2652480" y="5072040"/>
              <a:ext cx="2852640" cy="505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SEKSI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PELATIHAN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69"/>
            <p:cNvSpPr/>
            <p:nvPr/>
          </p:nvSpPr>
          <p:spPr>
            <a:xfrm>
              <a:off x="4168080" y="483444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Text Box 17"/>
            <p:cNvSpPr/>
            <p:nvPr/>
          </p:nvSpPr>
          <p:spPr>
            <a:xfrm>
              <a:off x="2489040" y="3156120"/>
              <a:ext cx="1782720" cy="396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KELOMPOK JABATAN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FUNGSIONAL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18"/>
            <p:cNvSpPr/>
            <p:nvPr/>
          </p:nvSpPr>
          <p:spPr>
            <a:xfrm>
              <a:off x="2489040" y="3777480"/>
              <a:ext cx="178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19"/>
            <p:cNvSpPr/>
            <p:nvPr/>
          </p:nvSpPr>
          <p:spPr>
            <a:xfrm>
              <a:off x="2489040" y="3972960"/>
              <a:ext cx="178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Line 20"/>
            <p:cNvSpPr/>
            <p:nvPr/>
          </p:nvSpPr>
          <p:spPr>
            <a:xfrm>
              <a:off x="2489040" y="4147920"/>
              <a:ext cx="178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Line 21"/>
            <p:cNvSpPr/>
            <p:nvPr/>
          </p:nvSpPr>
          <p:spPr>
            <a:xfrm flipV="1">
              <a:off x="2489040" y="3570480"/>
              <a:ext cx="0" cy="58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22"/>
            <p:cNvSpPr/>
            <p:nvPr/>
          </p:nvSpPr>
          <p:spPr>
            <a:xfrm flipV="1">
              <a:off x="2745360" y="3570480"/>
              <a:ext cx="0" cy="58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23"/>
            <p:cNvSpPr/>
            <p:nvPr/>
          </p:nvSpPr>
          <p:spPr>
            <a:xfrm flipV="1">
              <a:off x="4272120" y="3570480"/>
              <a:ext cx="0" cy="58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24"/>
            <p:cNvSpPr/>
            <p:nvPr/>
          </p:nvSpPr>
          <p:spPr>
            <a:xfrm flipV="1">
              <a:off x="3482640" y="3580200"/>
              <a:ext cx="0" cy="567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25"/>
            <p:cNvSpPr/>
            <p:nvPr/>
          </p:nvSpPr>
          <p:spPr>
            <a:xfrm flipV="1">
              <a:off x="3750120" y="3570480"/>
              <a:ext cx="0" cy="58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26"/>
            <p:cNvSpPr/>
            <p:nvPr/>
          </p:nvSpPr>
          <p:spPr>
            <a:xfrm flipV="1">
              <a:off x="4004640" y="3570480"/>
              <a:ext cx="0" cy="58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27"/>
            <p:cNvSpPr/>
            <p:nvPr/>
          </p:nvSpPr>
          <p:spPr>
            <a:xfrm flipV="1">
              <a:off x="3228120" y="3570480"/>
              <a:ext cx="0" cy="567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28"/>
            <p:cNvSpPr/>
            <p:nvPr/>
          </p:nvSpPr>
          <p:spPr>
            <a:xfrm flipV="1">
              <a:off x="2973600" y="3570480"/>
              <a:ext cx="0" cy="567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2" name="Footer Placeholder 2"/>
          <p:cNvSpPr/>
          <p:nvPr/>
        </p:nvSpPr>
        <p:spPr>
          <a:xfrm>
            <a:off x="4060800" y="7081920"/>
            <a:ext cx="37670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- 130 -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Text Box 31"/>
          <p:cNvSpPr/>
          <p:nvPr/>
        </p:nvSpPr>
        <p:spPr>
          <a:xfrm>
            <a:off x="1371600" y="1068480"/>
            <a:ext cx="36878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Bookman Old Style"/>
              <a:buAutoNum type="alphaU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Bookman Old Style"/>
              </a:rPr>
              <a:t>UPTD PENGAWASAN KETENAGAKERJAAN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21"/>
          <p:cNvSpPr/>
          <p:nvPr/>
        </p:nvSpPr>
        <p:spPr>
          <a:xfrm>
            <a:off x="5248440" y="2706840"/>
            <a:ext cx="1403280" cy="344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Bookman Old Style"/>
              </a:rPr>
              <a:t>KEPALA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6"/>
          <p:cNvSpPr/>
          <p:nvPr/>
        </p:nvSpPr>
        <p:spPr>
          <a:xfrm>
            <a:off x="6616800" y="3836880"/>
            <a:ext cx="1960560" cy="505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ts val="1599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000000"/>
                </a:solidFill>
                <a:latin typeface="Bookman Old Style"/>
              </a:rPr>
              <a:t>KASUBAG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599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000000"/>
                </a:solidFill>
                <a:latin typeface="Bookman Old Style"/>
              </a:rPr>
              <a:t>TATA USAHA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67"/>
          <p:cNvSpPr/>
          <p:nvPr/>
        </p:nvSpPr>
        <p:spPr>
          <a:xfrm>
            <a:off x="5943600" y="3562200"/>
            <a:ext cx="164772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37440" bIns="-3744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Line 90"/>
          <p:cNvSpPr/>
          <p:nvPr/>
        </p:nvSpPr>
        <p:spPr>
          <a:xfrm>
            <a:off x="5943600" y="3078000"/>
            <a:ext cx="0" cy="1893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7"/>
          <p:cNvSpPr/>
          <p:nvPr/>
        </p:nvSpPr>
        <p:spPr>
          <a:xfrm>
            <a:off x="5059440" y="4941720"/>
            <a:ext cx="1782720" cy="396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KELOMPOK JABATA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FUNGSIONAL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8"/>
          <p:cNvSpPr/>
          <p:nvPr/>
        </p:nvSpPr>
        <p:spPr>
          <a:xfrm>
            <a:off x="5059440" y="5562720"/>
            <a:ext cx="1782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Line 19"/>
          <p:cNvSpPr/>
          <p:nvPr/>
        </p:nvSpPr>
        <p:spPr>
          <a:xfrm>
            <a:off x="5059440" y="5757840"/>
            <a:ext cx="1782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Line 20"/>
          <p:cNvSpPr/>
          <p:nvPr/>
        </p:nvSpPr>
        <p:spPr>
          <a:xfrm>
            <a:off x="5059440" y="5932440"/>
            <a:ext cx="1782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21"/>
          <p:cNvSpPr/>
          <p:nvPr/>
        </p:nvSpPr>
        <p:spPr>
          <a:xfrm flipV="1">
            <a:off x="5059440" y="5356080"/>
            <a:ext cx="0" cy="587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22"/>
          <p:cNvSpPr/>
          <p:nvPr/>
        </p:nvSpPr>
        <p:spPr>
          <a:xfrm flipV="1">
            <a:off x="5315040" y="5356080"/>
            <a:ext cx="0" cy="587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23"/>
          <p:cNvSpPr/>
          <p:nvPr/>
        </p:nvSpPr>
        <p:spPr>
          <a:xfrm flipV="1">
            <a:off x="6842160" y="5356080"/>
            <a:ext cx="0" cy="587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Line 24"/>
          <p:cNvSpPr/>
          <p:nvPr/>
        </p:nvSpPr>
        <p:spPr>
          <a:xfrm flipV="1">
            <a:off x="6053040" y="5365800"/>
            <a:ext cx="0" cy="566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Line 25"/>
          <p:cNvSpPr/>
          <p:nvPr/>
        </p:nvSpPr>
        <p:spPr>
          <a:xfrm flipV="1">
            <a:off x="6319800" y="5356080"/>
            <a:ext cx="0" cy="587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Line 26"/>
          <p:cNvSpPr/>
          <p:nvPr/>
        </p:nvSpPr>
        <p:spPr>
          <a:xfrm flipV="1">
            <a:off x="6575400" y="5356080"/>
            <a:ext cx="0" cy="587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7"/>
          <p:cNvSpPr/>
          <p:nvPr/>
        </p:nvSpPr>
        <p:spPr>
          <a:xfrm flipV="1">
            <a:off x="5799240" y="5355720"/>
            <a:ext cx="0" cy="56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Line 28"/>
          <p:cNvSpPr/>
          <p:nvPr/>
        </p:nvSpPr>
        <p:spPr>
          <a:xfrm flipV="1">
            <a:off x="5543640" y="5355720"/>
            <a:ext cx="0" cy="56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Straight Connector 2"/>
          <p:cNvSpPr/>
          <p:nvPr/>
        </p:nvSpPr>
        <p:spPr>
          <a:xfrm>
            <a:off x="7591320" y="3570120"/>
            <a:ext cx="6480" cy="266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Footer Placeholder 2"/>
          <p:cNvSpPr/>
          <p:nvPr/>
        </p:nvSpPr>
        <p:spPr>
          <a:xfrm>
            <a:off x="4060800" y="7081920"/>
            <a:ext cx="37670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- 131 -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Text Box 31"/>
          <p:cNvSpPr/>
          <p:nvPr/>
        </p:nvSpPr>
        <p:spPr>
          <a:xfrm>
            <a:off x="1447920" y="1068480"/>
            <a:ext cx="335268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Bookman Old Style"/>
              <a:buAutoNum type="alphaU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Bookman Old Style"/>
              </a:rPr>
              <a:t>UPTD LABORATORIUM LINGKUNGAN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21"/>
          <p:cNvSpPr/>
          <p:nvPr/>
        </p:nvSpPr>
        <p:spPr>
          <a:xfrm>
            <a:off x="5248440" y="2489040"/>
            <a:ext cx="1403280" cy="344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Bookman Old Style"/>
              </a:rPr>
              <a:t>KEPALA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4" name="Group 43"/>
          <p:cNvGrpSpPr/>
          <p:nvPr/>
        </p:nvGrpSpPr>
        <p:grpSpPr>
          <a:xfrm>
            <a:off x="2489040" y="2828880"/>
            <a:ext cx="6939000" cy="3033720"/>
            <a:chOff x="2489040" y="2828880"/>
            <a:chExt cx="6939000" cy="3033720"/>
          </a:xfrm>
        </p:grpSpPr>
        <p:sp>
          <p:nvSpPr>
            <p:cNvPr id="595" name="Text Box 6"/>
            <p:cNvSpPr/>
            <p:nvPr/>
          </p:nvSpPr>
          <p:spPr>
            <a:xfrm>
              <a:off x="7645320" y="3448080"/>
              <a:ext cx="1782720" cy="505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d-ID" sz="1000" spc="-1" strike="noStrike">
                  <a:solidFill>
                    <a:srgbClr val="000000"/>
                  </a:solidFill>
                  <a:latin typeface="Bookman Old Style"/>
                </a:rPr>
                <a:t>KASUBAG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d-ID" sz="1000" spc="-1" strike="noStrike">
                  <a:solidFill>
                    <a:srgbClr val="000000"/>
                  </a:solidFill>
                  <a:latin typeface="Bookman Old Style"/>
                </a:rPr>
                <a:t>TATA USAHA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Line 67"/>
            <p:cNvSpPr/>
            <p:nvPr/>
          </p:nvSpPr>
          <p:spPr>
            <a:xfrm>
              <a:off x="3365640" y="3213360"/>
              <a:ext cx="5171040" cy="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37440" bIns="-374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Line 69"/>
            <p:cNvSpPr/>
            <p:nvPr/>
          </p:nvSpPr>
          <p:spPr>
            <a:xfrm>
              <a:off x="8536680" y="321336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Line 90"/>
            <p:cNvSpPr/>
            <p:nvPr/>
          </p:nvSpPr>
          <p:spPr>
            <a:xfrm>
              <a:off x="5951160" y="2828880"/>
              <a:ext cx="0" cy="2291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Line 69"/>
            <p:cNvSpPr/>
            <p:nvPr/>
          </p:nvSpPr>
          <p:spPr>
            <a:xfrm>
              <a:off x="3365640" y="321336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Text Box 6"/>
            <p:cNvSpPr/>
            <p:nvPr/>
          </p:nvSpPr>
          <p:spPr>
            <a:xfrm>
              <a:off x="6397560" y="5354640"/>
              <a:ext cx="2852640" cy="505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Bookman Old Style"/>
                </a:rPr>
                <a:t>SEKSI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0" i="1" lang="en-US" sz="1000" spc="-1" strike="noStrike">
                  <a:solidFill>
                    <a:srgbClr val="000000"/>
                  </a:solidFill>
                  <a:latin typeface="Bookman Old Style"/>
                </a:rPr>
                <a:t>TEKNIS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Line 67"/>
            <p:cNvSpPr/>
            <p:nvPr/>
          </p:nvSpPr>
          <p:spPr>
            <a:xfrm flipV="1">
              <a:off x="4145760" y="5119920"/>
              <a:ext cx="36774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3920" bIns="-43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Line 69"/>
            <p:cNvSpPr/>
            <p:nvPr/>
          </p:nvSpPr>
          <p:spPr>
            <a:xfrm>
              <a:off x="7823520" y="511992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Text Box 6"/>
            <p:cNvSpPr/>
            <p:nvPr/>
          </p:nvSpPr>
          <p:spPr>
            <a:xfrm>
              <a:off x="2652480" y="5356800"/>
              <a:ext cx="2852640" cy="505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Bookman Old Style"/>
                </a:rPr>
                <a:t>SEKSI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Bookman Old Style"/>
                </a:rPr>
                <a:t>MUTU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Line 69"/>
            <p:cNvSpPr/>
            <p:nvPr/>
          </p:nvSpPr>
          <p:spPr>
            <a:xfrm>
              <a:off x="4168080" y="511992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Text Box 17"/>
            <p:cNvSpPr/>
            <p:nvPr/>
          </p:nvSpPr>
          <p:spPr>
            <a:xfrm>
              <a:off x="2489040" y="3441600"/>
              <a:ext cx="1782720" cy="396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Bookman Old Style"/>
                </a:rPr>
                <a:t>KELOMPOK JABATAN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Bookman Old Style"/>
                </a:rPr>
                <a:t>FUNGSIONAL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Line 18"/>
            <p:cNvSpPr/>
            <p:nvPr/>
          </p:nvSpPr>
          <p:spPr>
            <a:xfrm>
              <a:off x="2489040" y="4063320"/>
              <a:ext cx="178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Line 19"/>
            <p:cNvSpPr/>
            <p:nvPr/>
          </p:nvSpPr>
          <p:spPr>
            <a:xfrm>
              <a:off x="2489040" y="4258800"/>
              <a:ext cx="178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Line 20"/>
            <p:cNvSpPr/>
            <p:nvPr/>
          </p:nvSpPr>
          <p:spPr>
            <a:xfrm>
              <a:off x="2489040" y="4433400"/>
              <a:ext cx="178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Line 21"/>
            <p:cNvSpPr/>
            <p:nvPr/>
          </p:nvSpPr>
          <p:spPr>
            <a:xfrm flipV="1">
              <a:off x="2489040" y="3856320"/>
              <a:ext cx="0" cy="58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22"/>
            <p:cNvSpPr/>
            <p:nvPr/>
          </p:nvSpPr>
          <p:spPr>
            <a:xfrm flipV="1">
              <a:off x="2745360" y="3856320"/>
              <a:ext cx="0" cy="58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Line 23"/>
            <p:cNvSpPr/>
            <p:nvPr/>
          </p:nvSpPr>
          <p:spPr>
            <a:xfrm flipV="1">
              <a:off x="4272120" y="3856320"/>
              <a:ext cx="0" cy="58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Line 24"/>
            <p:cNvSpPr/>
            <p:nvPr/>
          </p:nvSpPr>
          <p:spPr>
            <a:xfrm flipV="1">
              <a:off x="3482640" y="3866040"/>
              <a:ext cx="0" cy="567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Line 25"/>
            <p:cNvSpPr/>
            <p:nvPr/>
          </p:nvSpPr>
          <p:spPr>
            <a:xfrm flipV="1">
              <a:off x="3750120" y="3856320"/>
              <a:ext cx="0" cy="58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Line 26"/>
            <p:cNvSpPr/>
            <p:nvPr/>
          </p:nvSpPr>
          <p:spPr>
            <a:xfrm flipV="1">
              <a:off x="4004640" y="3856320"/>
              <a:ext cx="0" cy="58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Line 27"/>
            <p:cNvSpPr/>
            <p:nvPr/>
          </p:nvSpPr>
          <p:spPr>
            <a:xfrm flipV="1">
              <a:off x="3228120" y="3856320"/>
              <a:ext cx="0" cy="567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Line 28"/>
            <p:cNvSpPr/>
            <p:nvPr/>
          </p:nvSpPr>
          <p:spPr>
            <a:xfrm flipV="1">
              <a:off x="2973600" y="3856320"/>
              <a:ext cx="0" cy="567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7" name="Footer Placeholder 2"/>
          <p:cNvSpPr/>
          <p:nvPr/>
        </p:nvSpPr>
        <p:spPr>
          <a:xfrm>
            <a:off x="4060800" y="7081920"/>
            <a:ext cx="37670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- 132 -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Text Box 31"/>
          <p:cNvSpPr/>
          <p:nvPr/>
        </p:nvSpPr>
        <p:spPr>
          <a:xfrm>
            <a:off x="1419120" y="1058760"/>
            <a:ext cx="338148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Bookman Old Style"/>
              <a:buAutoNum type="alphaU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Bookman Old Style"/>
              </a:rPr>
              <a:t>UPTD SERTIFIKASI DAN PERBENIHAN TANAMAN HUTAN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21"/>
          <p:cNvSpPr/>
          <p:nvPr/>
        </p:nvSpPr>
        <p:spPr>
          <a:xfrm>
            <a:off x="5248440" y="1981080"/>
            <a:ext cx="1403280" cy="344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Bookman Old Style"/>
              </a:rPr>
              <a:t>KEPALA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6"/>
          <p:cNvSpPr/>
          <p:nvPr/>
        </p:nvSpPr>
        <p:spPr>
          <a:xfrm>
            <a:off x="7645320" y="2940120"/>
            <a:ext cx="1782720" cy="505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ts val="1599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000" spc="-1" strike="noStrike">
                <a:solidFill>
                  <a:srgbClr val="000000"/>
                </a:solidFill>
                <a:latin typeface="Bookman Old Style"/>
              </a:rPr>
              <a:t>KASUBAG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599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000" spc="-1" strike="noStrike">
                <a:solidFill>
                  <a:srgbClr val="000000"/>
                </a:solidFill>
                <a:latin typeface="Bookman Old Style"/>
              </a:rPr>
              <a:t>TATA USAHA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67"/>
          <p:cNvSpPr/>
          <p:nvPr/>
        </p:nvSpPr>
        <p:spPr>
          <a:xfrm>
            <a:off x="3365640" y="2705040"/>
            <a:ext cx="517032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37440" bIns="-3744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69"/>
          <p:cNvSpPr/>
          <p:nvPr/>
        </p:nvSpPr>
        <p:spPr>
          <a:xfrm>
            <a:off x="8535960" y="270504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90"/>
          <p:cNvSpPr/>
          <p:nvPr/>
        </p:nvSpPr>
        <p:spPr>
          <a:xfrm>
            <a:off x="5951520" y="2328840"/>
            <a:ext cx="0" cy="3354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69"/>
          <p:cNvSpPr/>
          <p:nvPr/>
        </p:nvSpPr>
        <p:spPr>
          <a:xfrm>
            <a:off x="3365640" y="270504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6"/>
          <p:cNvSpPr/>
          <p:nvPr/>
        </p:nvSpPr>
        <p:spPr>
          <a:xfrm>
            <a:off x="6397560" y="4846680"/>
            <a:ext cx="2852640" cy="505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ts val="1599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Bookman Old Style"/>
              </a:rPr>
              <a:t>SEKSI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599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en-US" sz="1000" spc="-1" strike="noStrike">
                <a:solidFill>
                  <a:srgbClr val="000000"/>
                </a:solidFill>
                <a:latin typeface="Bookman Old Style"/>
              </a:rPr>
              <a:t>PERBENIHA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Line 67"/>
          <p:cNvSpPr/>
          <p:nvPr/>
        </p:nvSpPr>
        <p:spPr>
          <a:xfrm flipV="1">
            <a:off x="4146480" y="4611240"/>
            <a:ext cx="36766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3560" bIns="-43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Line 69"/>
          <p:cNvSpPr/>
          <p:nvPr/>
        </p:nvSpPr>
        <p:spPr>
          <a:xfrm>
            <a:off x="7823160" y="461160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6"/>
          <p:cNvSpPr/>
          <p:nvPr/>
        </p:nvSpPr>
        <p:spPr>
          <a:xfrm>
            <a:off x="2652840" y="4848120"/>
            <a:ext cx="2852640" cy="505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ts val="1599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Bookman Old Style"/>
              </a:rPr>
              <a:t>SEKSI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599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Bookman Old Style"/>
              </a:rPr>
              <a:t>SERTIFIKASI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Line 69"/>
          <p:cNvSpPr/>
          <p:nvPr/>
        </p:nvSpPr>
        <p:spPr>
          <a:xfrm>
            <a:off x="4143240" y="461160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17"/>
          <p:cNvSpPr/>
          <p:nvPr/>
        </p:nvSpPr>
        <p:spPr>
          <a:xfrm>
            <a:off x="2489040" y="2933640"/>
            <a:ext cx="1783080" cy="396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Bookman Old Style"/>
              </a:rPr>
              <a:t>KELOMPOK JABATA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Bookman Old Style"/>
              </a:rPr>
              <a:t>FUNGSIONAL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Line 18"/>
          <p:cNvSpPr/>
          <p:nvPr/>
        </p:nvSpPr>
        <p:spPr>
          <a:xfrm>
            <a:off x="2489040" y="3556080"/>
            <a:ext cx="1783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Line 19"/>
          <p:cNvSpPr/>
          <p:nvPr/>
        </p:nvSpPr>
        <p:spPr>
          <a:xfrm>
            <a:off x="2489040" y="3751200"/>
            <a:ext cx="1783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20"/>
          <p:cNvSpPr/>
          <p:nvPr/>
        </p:nvSpPr>
        <p:spPr>
          <a:xfrm>
            <a:off x="2489040" y="3925800"/>
            <a:ext cx="1783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Line 21"/>
          <p:cNvSpPr/>
          <p:nvPr/>
        </p:nvSpPr>
        <p:spPr>
          <a:xfrm flipV="1">
            <a:off x="2489040" y="3349440"/>
            <a:ext cx="0" cy="587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22"/>
          <p:cNvSpPr/>
          <p:nvPr/>
        </p:nvSpPr>
        <p:spPr>
          <a:xfrm flipV="1">
            <a:off x="2744640" y="3349440"/>
            <a:ext cx="0" cy="587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23"/>
          <p:cNvSpPr/>
          <p:nvPr/>
        </p:nvSpPr>
        <p:spPr>
          <a:xfrm flipV="1">
            <a:off x="4267080" y="3349440"/>
            <a:ext cx="0" cy="587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24"/>
          <p:cNvSpPr/>
          <p:nvPr/>
        </p:nvSpPr>
        <p:spPr>
          <a:xfrm flipV="1">
            <a:off x="3483000" y="3359160"/>
            <a:ext cx="0" cy="566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25"/>
          <p:cNvSpPr/>
          <p:nvPr/>
        </p:nvSpPr>
        <p:spPr>
          <a:xfrm flipV="1">
            <a:off x="3749760" y="3349440"/>
            <a:ext cx="0" cy="587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26"/>
          <p:cNvSpPr/>
          <p:nvPr/>
        </p:nvSpPr>
        <p:spPr>
          <a:xfrm flipV="1">
            <a:off x="4005360" y="3349440"/>
            <a:ext cx="0" cy="587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27"/>
          <p:cNvSpPr/>
          <p:nvPr/>
        </p:nvSpPr>
        <p:spPr>
          <a:xfrm flipV="1">
            <a:off x="3228840" y="3349800"/>
            <a:ext cx="0" cy="566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28"/>
          <p:cNvSpPr/>
          <p:nvPr/>
        </p:nvSpPr>
        <p:spPr>
          <a:xfrm flipV="1">
            <a:off x="2973240" y="3349800"/>
            <a:ext cx="0" cy="566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Text Box 39"/>
          <p:cNvSpPr/>
          <p:nvPr/>
        </p:nvSpPr>
        <p:spPr>
          <a:xfrm>
            <a:off x="5016600" y="5681520"/>
            <a:ext cx="1744560" cy="396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INSTALASI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UKADIRI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0"/>
          <p:cNvSpPr/>
          <p:nvPr/>
        </p:nvSpPr>
        <p:spPr>
          <a:xfrm>
            <a:off x="6764400" y="5807160"/>
            <a:ext cx="158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1"/>
          <p:cNvSpPr/>
          <p:nvPr/>
        </p:nvSpPr>
        <p:spPr>
          <a:xfrm>
            <a:off x="6932520" y="5818320"/>
            <a:ext cx="0" cy="3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Line 42"/>
          <p:cNvSpPr/>
          <p:nvPr/>
        </p:nvSpPr>
        <p:spPr>
          <a:xfrm>
            <a:off x="5186520" y="6078600"/>
            <a:ext cx="0" cy="8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Line 43"/>
          <p:cNvSpPr/>
          <p:nvPr/>
        </p:nvSpPr>
        <p:spPr>
          <a:xfrm>
            <a:off x="5192640" y="6153120"/>
            <a:ext cx="174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Line 44"/>
          <p:cNvSpPr/>
          <p:nvPr/>
        </p:nvSpPr>
        <p:spPr>
          <a:xfrm>
            <a:off x="6919920" y="5878440"/>
            <a:ext cx="158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Line 45"/>
          <p:cNvSpPr/>
          <p:nvPr/>
        </p:nvSpPr>
        <p:spPr>
          <a:xfrm>
            <a:off x="7078680" y="5888160"/>
            <a:ext cx="0" cy="3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Line 46"/>
          <p:cNvSpPr/>
          <p:nvPr/>
        </p:nvSpPr>
        <p:spPr>
          <a:xfrm>
            <a:off x="5330880" y="6143760"/>
            <a:ext cx="0" cy="81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Line 47"/>
          <p:cNvSpPr/>
          <p:nvPr/>
        </p:nvSpPr>
        <p:spPr>
          <a:xfrm>
            <a:off x="5334120" y="6224760"/>
            <a:ext cx="174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Line 48"/>
          <p:cNvSpPr/>
          <p:nvPr/>
        </p:nvSpPr>
        <p:spPr>
          <a:xfrm>
            <a:off x="7085160" y="5978520"/>
            <a:ext cx="158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Line 49"/>
          <p:cNvSpPr/>
          <p:nvPr/>
        </p:nvSpPr>
        <p:spPr>
          <a:xfrm>
            <a:off x="7243920" y="5978520"/>
            <a:ext cx="0" cy="3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Line 50"/>
          <p:cNvSpPr/>
          <p:nvPr/>
        </p:nvSpPr>
        <p:spPr>
          <a:xfrm>
            <a:off x="5495760" y="6224760"/>
            <a:ext cx="0" cy="8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Line 51"/>
          <p:cNvSpPr/>
          <p:nvPr/>
        </p:nvSpPr>
        <p:spPr>
          <a:xfrm>
            <a:off x="5499000" y="6305400"/>
            <a:ext cx="174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Footer Placeholder 2"/>
          <p:cNvSpPr/>
          <p:nvPr/>
        </p:nvSpPr>
        <p:spPr>
          <a:xfrm>
            <a:off x="4060800" y="7081920"/>
            <a:ext cx="37670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- 133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Line 4"/>
          <p:cNvSpPr/>
          <p:nvPr/>
        </p:nvSpPr>
        <p:spPr>
          <a:xfrm flipH="1">
            <a:off x="5937120" y="2614680"/>
            <a:ext cx="6480" cy="207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6931080" y="2975040"/>
            <a:ext cx="1981080" cy="63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ts val="2024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SUB BAGIA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024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TATA USAHA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4946760" y="4692600"/>
            <a:ext cx="1981080" cy="420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KELOMPOK JABATA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FUNGSIONAL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7"/>
          <p:cNvSpPr/>
          <p:nvPr/>
        </p:nvSpPr>
        <p:spPr>
          <a:xfrm>
            <a:off x="4946760" y="53611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-57600" bIns="-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8"/>
          <p:cNvSpPr/>
          <p:nvPr/>
        </p:nvSpPr>
        <p:spPr>
          <a:xfrm>
            <a:off x="4946760" y="558324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-57600" bIns="-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9"/>
          <p:cNvSpPr/>
          <p:nvPr/>
        </p:nvSpPr>
        <p:spPr>
          <a:xfrm>
            <a:off x="4946760" y="5791320"/>
            <a:ext cx="1981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-57600" bIns="-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10"/>
          <p:cNvSpPr/>
          <p:nvPr/>
        </p:nvSpPr>
        <p:spPr>
          <a:xfrm flipV="1">
            <a:off x="4946760" y="5127480"/>
            <a:ext cx="0" cy="66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11"/>
          <p:cNvSpPr/>
          <p:nvPr/>
        </p:nvSpPr>
        <p:spPr>
          <a:xfrm flipV="1">
            <a:off x="5230800" y="5127480"/>
            <a:ext cx="0" cy="66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12"/>
          <p:cNvSpPr/>
          <p:nvPr/>
        </p:nvSpPr>
        <p:spPr>
          <a:xfrm flipV="1">
            <a:off x="6927840" y="5127480"/>
            <a:ext cx="0" cy="66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13"/>
          <p:cNvSpPr/>
          <p:nvPr/>
        </p:nvSpPr>
        <p:spPr>
          <a:xfrm flipV="1">
            <a:off x="6049800" y="5140080"/>
            <a:ext cx="0" cy="64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14"/>
          <p:cNvSpPr/>
          <p:nvPr/>
        </p:nvSpPr>
        <p:spPr>
          <a:xfrm flipV="1">
            <a:off x="6348240" y="5127480"/>
            <a:ext cx="0" cy="66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15"/>
          <p:cNvSpPr/>
          <p:nvPr/>
        </p:nvSpPr>
        <p:spPr>
          <a:xfrm flipV="1">
            <a:off x="6630840" y="5127480"/>
            <a:ext cx="0" cy="66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16"/>
          <p:cNvSpPr/>
          <p:nvPr/>
        </p:nvSpPr>
        <p:spPr>
          <a:xfrm flipV="1">
            <a:off x="5767560" y="512748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17"/>
          <p:cNvSpPr/>
          <p:nvPr/>
        </p:nvSpPr>
        <p:spPr>
          <a:xfrm flipV="1">
            <a:off x="5484960" y="512748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18"/>
          <p:cNvSpPr/>
          <p:nvPr/>
        </p:nvSpPr>
        <p:spPr>
          <a:xfrm>
            <a:off x="5937120" y="327672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-57600" bIns="-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21"/>
          <p:cNvSpPr/>
          <p:nvPr/>
        </p:nvSpPr>
        <p:spPr>
          <a:xfrm>
            <a:off x="5237280" y="2286000"/>
            <a:ext cx="1403280" cy="344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Bookman Old Style"/>
              </a:rPr>
              <a:t>KEPALA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31"/>
          <p:cNvSpPr/>
          <p:nvPr/>
        </p:nvSpPr>
        <p:spPr>
          <a:xfrm>
            <a:off x="1295280" y="976320"/>
            <a:ext cx="304812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marL="228600" indent="-2286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Bookman Old Style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man Old Style"/>
              </a:rPr>
              <a:t>SATUAN PENDIDIKA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Footer Placeholder 2"/>
          <p:cNvSpPr/>
          <p:nvPr/>
        </p:nvSpPr>
        <p:spPr>
          <a:xfrm>
            <a:off x="4060800" y="7081920"/>
            <a:ext cx="37670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- 116 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-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Text Box 31"/>
          <p:cNvSpPr/>
          <p:nvPr/>
        </p:nvSpPr>
        <p:spPr>
          <a:xfrm>
            <a:off x="1447920" y="1068480"/>
            <a:ext cx="31082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Bookman Old Style"/>
              <a:buAutoNum type="alphaU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Bookman Old Style"/>
              </a:rPr>
              <a:t>UPTD PENGELOLAAN TAMAN HUTAN RAYA BANTEN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Text Box 21"/>
          <p:cNvSpPr/>
          <p:nvPr/>
        </p:nvSpPr>
        <p:spPr>
          <a:xfrm>
            <a:off x="5248440" y="2260440"/>
            <a:ext cx="1403280" cy="344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Bookman Old Style"/>
              </a:rPr>
              <a:t>KEPALA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Group 43"/>
          <p:cNvGrpSpPr/>
          <p:nvPr/>
        </p:nvGrpSpPr>
        <p:grpSpPr>
          <a:xfrm>
            <a:off x="2489040" y="2600280"/>
            <a:ext cx="6939000" cy="3033000"/>
            <a:chOff x="2489040" y="2600280"/>
            <a:chExt cx="6939000" cy="3033000"/>
          </a:xfrm>
        </p:grpSpPr>
        <p:sp>
          <p:nvSpPr>
            <p:cNvPr id="659" name="Text Box 6"/>
            <p:cNvSpPr/>
            <p:nvPr/>
          </p:nvSpPr>
          <p:spPr>
            <a:xfrm>
              <a:off x="7645320" y="3219480"/>
              <a:ext cx="1782720" cy="505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d-ID" sz="1000" spc="-1" strike="noStrike">
                  <a:solidFill>
                    <a:srgbClr val="000000"/>
                  </a:solidFill>
                  <a:latin typeface="Bookman Old Style"/>
                </a:rPr>
                <a:t>KASUBAG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d-ID" sz="1000" spc="-1" strike="noStrike">
                  <a:solidFill>
                    <a:srgbClr val="000000"/>
                  </a:solidFill>
                  <a:latin typeface="Bookman Old Style"/>
                </a:rPr>
                <a:t>TATA USAHA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67"/>
            <p:cNvSpPr/>
            <p:nvPr/>
          </p:nvSpPr>
          <p:spPr>
            <a:xfrm>
              <a:off x="3365640" y="2984400"/>
              <a:ext cx="5171040" cy="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37440" bIns="-374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69"/>
            <p:cNvSpPr/>
            <p:nvPr/>
          </p:nvSpPr>
          <p:spPr>
            <a:xfrm>
              <a:off x="8536680" y="298440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90"/>
            <p:cNvSpPr/>
            <p:nvPr/>
          </p:nvSpPr>
          <p:spPr>
            <a:xfrm>
              <a:off x="5951160" y="2600280"/>
              <a:ext cx="0" cy="2290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69"/>
            <p:cNvSpPr/>
            <p:nvPr/>
          </p:nvSpPr>
          <p:spPr>
            <a:xfrm>
              <a:off x="3365640" y="298440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Text Box 6"/>
            <p:cNvSpPr/>
            <p:nvPr/>
          </p:nvSpPr>
          <p:spPr>
            <a:xfrm>
              <a:off x="6397560" y="5126040"/>
              <a:ext cx="2852640" cy="505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Bookman Old Style"/>
                </a:rPr>
                <a:t>SEKSI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0" i="1" lang="en-US" sz="1000" spc="-1" strike="noStrike">
                  <a:solidFill>
                    <a:srgbClr val="000000"/>
                  </a:solidFill>
                  <a:latin typeface="Bookman Old Style"/>
                </a:rPr>
                <a:t>PENGEMBANGAN DAN PEMANFAATAN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Line 67"/>
            <p:cNvSpPr/>
            <p:nvPr/>
          </p:nvSpPr>
          <p:spPr>
            <a:xfrm flipV="1">
              <a:off x="4145760" y="4890600"/>
              <a:ext cx="36774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3920" bIns="-43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Line 69"/>
            <p:cNvSpPr/>
            <p:nvPr/>
          </p:nvSpPr>
          <p:spPr>
            <a:xfrm>
              <a:off x="7823520" y="489060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Text Box 6"/>
            <p:cNvSpPr/>
            <p:nvPr/>
          </p:nvSpPr>
          <p:spPr>
            <a:xfrm>
              <a:off x="2652480" y="5127480"/>
              <a:ext cx="2852640" cy="505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Bookman Old Style"/>
                </a:rPr>
                <a:t>SEKSI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Bookman Old Style"/>
                </a:rPr>
                <a:t>PERLINDUNGAN DAN REHABILITASI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Line 69"/>
            <p:cNvSpPr/>
            <p:nvPr/>
          </p:nvSpPr>
          <p:spPr>
            <a:xfrm>
              <a:off x="4168080" y="489060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Text Box 17"/>
            <p:cNvSpPr/>
            <p:nvPr/>
          </p:nvSpPr>
          <p:spPr>
            <a:xfrm>
              <a:off x="2489040" y="3213000"/>
              <a:ext cx="1782720" cy="396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Bookman Old Style"/>
                </a:rPr>
                <a:t>KELOMPOK JABATAN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Bookman Old Style"/>
                </a:rPr>
                <a:t>FUNGSIONAL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Line 18"/>
            <p:cNvSpPr/>
            <p:nvPr/>
          </p:nvSpPr>
          <p:spPr>
            <a:xfrm>
              <a:off x="2489040" y="3834360"/>
              <a:ext cx="178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Line 19"/>
            <p:cNvSpPr/>
            <p:nvPr/>
          </p:nvSpPr>
          <p:spPr>
            <a:xfrm>
              <a:off x="2489040" y="4029840"/>
              <a:ext cx="178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Line 20"/>
            <p:cNvSpPr/>
            <p:nvPr/>
          </p:nvSpPr>
          <p:spPr>
            <a:xfrm>
              <a:off x="2489040" y="4204440"/>
              <a:ext cx="178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Line 21"/>
            <p:cNvSpPr/>
            <p:nvPr/>
          </p:nvSpPr>
          <p:spPr>
            <a:xfrm flipV="1">
              <a:off x="2489040" y="3627720"/>
              <a:ext cx="0" cy="58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Line 22"/>
            <p:cNvSpPr/>
            <p:nvPr/>
          </p:nvSpPr>
          <p:spPr>
            <a:xfrm flipV="1">
              <a:off x="2745360" y="3627720"/>
              <a:ext cx="0" cy="58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Line 23"/>
            <p:cNvSpPr/>
            <p:nvPr/>
          </p:nvSpPr>
          <p:spPr>
            <a:xfrm flipV="1">
              <a:off x="4272120" y="3627720"/>
              <a:ext cx="0" cy="58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Line 24"/>
            <p:cNvSpPr/>
            <p:nvPr/>
          </p:nvSpPr>
          <p:spPr>
            <a:xfrm flipV="1">
              <a:off x="3482640" y="3637080"/>
              <a:ext cx="0" cy="567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Line 25"/>
            <p:cNvSpPr/>
            <p:nvPr/>
          </p:nvSpPr>
          <p:spPr>
            <a:xfrm flipV="1">
              <a:off x="3750120" y="3627720"/>
              <a:ext cx="0" cy="58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Line 26"/>
            <p:cNvSpPr/>
            <p:nvPr/>
          </p:nvSpPr>
          <p:spPr>
            <a:xfrm flipV="1">
              <a:off x="4004640" y="3627720"/>
              <a:ext cx="0" cy="58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Line 27"/>
            <p:cNvSpPr/>
            <p:nvPr/>
          </p:nvSpPr>
          <p:spPr>
            <a:xfrm flipV="1">
              <a:off x="3228120" y="3627360"/>
              <a:ext cx="0" cy="567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Line 28"/>
            <p:cNvSpPr/>
            <p:nvPr/>
          </p:nvSpPr>
          <p:spPr>
            <a:xfrm flipV="1">
              <a:off x="2973600" y="3627360"/>
              <a:ext cx="0" cy="567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1" name="Footer Placeholder 2"/>
          <p:cNvSpPr/>
          <p:nvPr/>
        </p:nvSpPr>
        <p:spPr>
          <a:xfrm>
            <a:off x="4060800" y="7081920"/>
            <a:ext cx="37670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- 134 -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Text Box 31"/>
          <p:cNvSpPr/>
          <p:nvPr/>
        </p:nvSpPr>
        <p:spPr>
          <a:xfrm>
            <a:off x="1295280" y="1068480"/>
            <a:ext cx="326088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Bookman Old Style"/>
              <a:buAutoNum type="alphaU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Bookman Old Style"/>
              </a:rPr>
              <a:t>UPTD PENGELOLAAN  PRASARANA PERHUBUNGAN 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Group 1"/>
          <p:cNvGrpSpPr/>
          <p:nvPr/>
        </p:nvGrpSpPr>
        <p:grpSpPr>
          <a:xfrm>
            <a:off x="2489040" y="2008080"/>
            <a:ext cx="6939000" cy="3699720"/>
            <a:chOff x="2489040" y="2008080"/>
            <a:chExt cx="6939000" cy="3699720"/>
          </a:xfrm>
        </p:grpSpPr>
        <p:sp>
          <p:nvSpPr>
            <p:cNvPr id="684" name="Text Box 21"/>
            <p:cNvSpPr/>
            <p:nvPr/>
          </p:nvSpPr>
          <p:spPr>
            <a:xfrm>
              <a:off x="5248080" y="2008080"/>
              <a:ext cx="1403280" cy="3445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560" rIns="115560" tIns="57960" bIns="5796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Bookman Old Style"/>
                </a:rPr>
                <a:t>KEPALA</a:t>
              </a:r>
              <a:endParaRPr b="1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Text Box 6"/>
            <p:cNvSpPr/>
            <p:nvPr/>
          </p:nvSpPr>
          <p:spPr>
            <a:xfrm>
              <a:off x="7645320" y="2965320"/>
              <a:ext cx="1782720" cy="505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000" spc="-1" strike="noStrike">
                  <a:solidFill>
                    <a:srgbClr val="000000"/>
                  </a:solidFill>
                  <a:latin typeface="Bookman Old Style"/>
                </a:rPr>
                <a:t>KASUBAG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000" spc="-1" strike="noStrike">
                  <a:solidFill>
                    <a:srgbClr val="000000"/>
                  </a:solidFill>
                  <a:latin typeface="Bookman Old Style"/>
                </a:rPr>
                <a:t>TATA USAHA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Line 67"/>
            <p:cNvSpPr/>
            <p:nvPr/>
          </p:nvSpPr>
          <p:spPr>
            <a:xfrm>
              <a:off x="3365280" y="2730240"/>
              <a:ext cx="5170680" cy="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37440" bIns="-374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Line 69"/>
            <p:cNvSpPr/>
            <p:nvPr/>
          </p:nvSpPr>
          <p:spPr>
            <a:xfrm>
              <a:off x="8535960" y="273024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Line 90"/>
            <p:cNvSpPr/>
            <p:nvPr/>
          </p:nvSpPr>
          <p:spPr>
            <a:xfrm flipH="1">
              <a:off x="5949720" y="2346120"/>
              <a:ext cx="1440" cy="241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Line 69"/>
            <p:cNvSpPr/>
            <p:nvPr/>
          </p:nvSpPr>
          <p:spPr>
            <a:xfrm>
              <a:off x="3365280" y="273024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Text Box 6"/>
            <p:cNvSpPr/>
            <p:nvPr/>
          </p:nvSpPr>
          <p:spPr>
            <a:xfrm>
              <a:off x="6397560" y="4991040"/>
              <a:ext cx="2852640" cy="7167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SEKSI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PRASARANA PERHUBUNGAN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LAUT DAN PERHUBUNGAN UDARA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Line 67"/>
            <p:cNvSpPr/>
            <p:nvPr/>
          </p:nvSpPr>
          <p:spPr>
            <a:xfrm flipV="1">
              <a:off x="4146480" y="4756320"/>
              <a:ext cx="36766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3920" bIns="-43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Line 69"/>
            <p:cNvSpPr/>
            <p:nvPr/>
          </p:nvSpPr>
          <p:spPr>
            <a:xfrm>
              <a:off x="7823160" y="475632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Text Box 6"/>
            <p:cNvSpPr/>
            <p:nvPr/>
          </p:nvSpPr>
          <p:spPr>
            <a:xfrm>
              <a:off x="2652480" y="4992840"/>
              <a:ext cx="2852640" cy="497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SEKSI SARANA PERHUBUNGAN DARAT DAN PENGENDALIAN OPERASIONAL ANGKUTAN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Line 69"/>
            <p:cNvSpPr/>
            <p:nvPr/>
          </p:nvSpPr>
          <p:spPr>
            <a:xfrm>
              <a:off x="4149360" y="475632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Text Box 17"/>
            <p:cNvSpPr/>
            <p:nvPr/>
          </p:nvSpPr>
          <p:spPr>
            <a:xfrm>
              <a:off x="2489040" y="2958840"/>
              <a:ext cx="1782720" cy="396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KELOMPOK JABATAN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FUNGSIONAL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Line 18"/>
            <p:cNvSpPr/>
            <p:nvPr/>
          </p:nvSpPr>
          <p:spPr>
            <a:xfrm>
              <a:off x="2489040" y="3579840"/>
              <a:ext cx="178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Line 19"/>
            <p:cNvSpPr/>
            <p:nvPr/>
          </p:nvSpPr>
          <p:spPr>
            <a:xfrm>
              <a:off x="2489040" y="3774960"/>
              <a:ext cx="178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Line 20"/>
            <p:cNvSpPr/>
            <p:nvPr/>
          </p:nvSpPr>
          <p:spPr>
            <a:xfrm>
              <a:off x="2489040" y="3949560"/>
              <a:ext cx="178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Line 21"/>
            <p:cNvSpPr/>
            <p:nvPr/>
          </p:nvSpPr>
          <p:spPr>
            <a:xfrm flipV="1">
              <a:off x="2489040" y="3372840"/>
              <a:ext cx="0" cy="58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Line 22"/>
            <p:cNvSpPr/>
            <p:nvPr/>
          </p:nvSpPr>
          <p:spPr>
            <a:xfrm flipV="1">
              <a:off x="2744640" y="3372840"/>
              <a:ext cx="0" cy="58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Line 23"/>
            <p:cNvSpPr/>
            <p:nvPr/>
          </p:nvSpPr>
          <p:spPr>
            <a:xfrm flipV="1">
              <a:off x="4271760" y="3372840"/>
              <a:ext cx="0" cy="58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Line 24"/>
            <p:cNvSpPr/>
            <p:nvPr/>
          </p:nvSpPr>
          <p:spPr>
            <a:xfrm flipV="1">
              <a:off x="3482640" y="3382920"/>
              <a:ext cx="0" cy="566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Line 25"/>
            <p:cNvSpPr/>
            <p:nvPr/>
          </p:nvSpPr>
          <p:spPr>
            <a:xfrm flipV="1">
              <a:off x="3749400" y="3372840"/>
              <a:ext cx="0" cy="58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Line 26"/>
            <p:cNvSpPr/>
            <p:nvPr/>
          </p:nvSpPr>
          <p:spPr>
            <a:xfrm flipV="1">
              <a:off x="4005000" y="3372840"/>
              <a:ext cx="0" cy="58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Line 27"/>
            <p:cNvSpPr/>
            <p:nvPr/>
          </p:nvSpPr>
          <p:spPr>
            <a:xfrm flipV="1">
              <a:off x="3228840" y="3373200"/>
              <a:ext cx="0" cy="566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Line 28"/>
            <p:cNvSpPr/>
            <p:nvPr/>
          </p:nvSpPr>
          <p:spPr>
            <a:xfrm flipV="1">
              <a:off x="2973240" y="3373200"/>
              <a:ext cx="0" cy="566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7" name="Footer Placeholder 2"/>
          <p:cNvSpPr/>
          <p:nvPr/>
        </p:nvSpPr>
        <p:spPr>
          <a:xfrm>
            <a:off x="4060800" y="7081920"/>
            <a:ext cx="37670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- 135 -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Text Box 31"/>
          <p:cNvSpPr/>
          <p:nvPr/>
        </p:nvSpPr>
        <p:spPr>
          <a:xfrm>
            <a:off x="1371600" y="1068480"/>
            <a:ext cx="31845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Bookman Old Style"/>
              <a:buAutoNum type="alphaUcPeriod" startAt="1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Bookman Old Style"/>
              </a:rPr>
              <a:t>UPTD PEMBINAAN DAN PELATIHAN OLAHRAGA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9" name="Group 1"/>
          <p:cNvGrpSpPr/>
          <p:nvPr/>
        </p:nvGrpSpPr>
        <p:grpSpPr>
          <a:xfrm>
            <a:off x="2489040" y="2209680"/>
            <a:ext cx="6939000" cy="3372840"/>
            <a:chOff x="2489040" y="2209680"/>
            <a:chExt cx="6939000" cy="3372840"/>
          </a:xfrm>
        </p:grpSpPr>
        <p:sp>
          <p:nvSpPr>
            <p:cNvPr id="710" name="Text Box 21"/>
            <p:cNvSpPr/>
            <p:nvPr/>
          </p:nvSpPr>
          <p:spPr>
            <a:xfrm>
              <a:off x="5248080" y="2209680"/>
              <a:ext cx="1403280" cy="3445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560" rIns="115560" tIns="57960" bIns="5796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Bookman Old Style"/>
                </a:rPr>
                <a:t>KEPALA</a:t>
              </a:r>
              <a:endParaRPr b="1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Text Box 6"/>
            <p:cNvSpPr/>
            <p:nvPr/>
          </p:nvSpPr>
          <p:spPr>
            <a:xfrm>
              <a:off x="7645320" y="3168360"/>
              <a:ext cx="1782720" cy="505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000" spc="-1" strike="noStrike">
                  <a:solidFill>
                    <a:srgbClr val="000000"/>
                  </a:solidFill>
                  <a:latin typeface="Bookman Old Style"/>
                </a:rPr>
                <a:t>KASUBAG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000" spc="-1" strike="noStrike">
                  <a:solidFill>
                    <a:srgbClr val="000000"/>
                  </a:solidFill>
                  <a:latin typeface="Bookman Old Style"/>
                </a:rPr>
                <a:t>TATA USAHA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Line 67"/>
            <p:cNvSpPr/>
            <p:nvPr/>
          </p:nvSpPr>
          <p:spPr>
            <a:xfrm>
              <a:off x="3365280" y="2933640"/>
              <a:ext cx="5170680" cy="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37440" bIns="-374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69"/>
            <p:cNvSpPr/>
            <p:nvPr/>
          </p:nvSpPr>
          <p:spPr>
            <a:xfrm>
              <a:off x="8535960" y="293364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90"/>
            <p:cNvSpPr/>
            <p:nvPr/>
          </p:nvSpPr>
          <p:spPr>
            <a:xfrm>
              <a:off x="5951520" y="2549160"/>
              <a:ext cx="0" cy="2290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69"/>
            <p:cNvSpPr/>
            <p:nvPr/>
          </p:nvSpPr>
          <p:spPr>
            <a:xfrm>
              <a:off x="3365280" y="293364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Text Box 6"/>
            <p:cNvSpPr/>
            <p:nvPr/>
          </p:nvSpPr>
          <p:spPr>
            <a:xfrm>
              <a:off x="6397560" y="5075280"/>
              <a:ext cx="2852640" cy="505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SEKSI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SARANA DAN PRASARANA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67"/>
            <p:cNvSpPr/>
            <p:nvPr/>
          </p:nvSpPr>
          <p:spPr>
            <a:xfrm flipV="1">
              <a:off x="4146480" y="4840200"/>
              <a:ext cx="36766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3920" bIns="-43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69"/>
            <p:cNvSpPr/>
            <p:nvPr/>
          </p:nvSpPr>
          <p:spPr>
            <a:xfrm>
              <a:off x="7823160" y="484020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Text Box 6"/>
            <p:cNvSpPr/>
            <p:nvPr/>
          </p:nvSpPr>
          <p:spPr>
            <a:xfrm>
              <a:off x="2652480" y="5076720"/>
              <a:ext cx="2852640" cy="505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SEKSI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PEMBINAAN DAN PELATIHAN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69"/>
            <p:cNvSpPr/>
            <p:nvPr/>
          </p:nvSpPr>
          <p:spPr>
            <a:xfrm>
              <a:off x="4168440" y="484020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Text Box 17"/>
            <p:cNvSpPr/>
            <p:nvPr/>
          </p:nvSpPr>
          <p:spPr>
            <a:xfrm>
              <a:off x="2489040" y="3162240"/>
              <a:ext cx="1782720" cy="396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KELOMPOK JABATAN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FUNGSIONAL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Line 18"/>
            <p:cNvSpPr/>
            <p:nvPr/>
          </p:nvSpPr>
          <p:spPr>
            <a:xfrm>
              <a:off x="2489040" y="3782880"/>
              <a:ext cx="178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Line 19"/>
            <p:cNvSpPr/>
            <p:nvPr/>
          </p:nvSpPr>
          <p:spPr>
            <a:xfrm>
              <a:off x="2489040" y="3978000"/>
              <a:ext cx="178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20"/>
            <p:cNvSpPr/>
            <p:nvPr/>
          </p:nvSpPr>
          <p:spPr>
            <a:xfrm>
              <a:off x="2489040" y="4154400"/>
              <a:ext cx="178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21"/>
            <p:cNvSpPr/>
            <p:nvPr/>
          </p:nvSpPr>
          <p:spPr>
            <a:xfrm flipV="1">
              <a:off x="2489040" y="3576600"/>
              <a:ext cx="0" cy="58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22"/>
            <p:cNvSpPr/>
            <p:nvPr/>
          </p:nvSpPr>
          <p:spPr>
            <a:xfrm flipV="1">
              <a:off x="2744640" y="3576600"/>
              <a:ext cx="0" cy="58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23"/>
            <p:cNvSpPr/>
            <p:nvPr/>
          </p:nvSpPr>
          <p:spPr>
            <a:xfrm flipV="1">
              <a:off x="4271760" y="3576600"/>
              <a:ext cx="0" cy="58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24"/>
            <p:cNvSpPr/>
            <p:nvPr/>
          </p:nvSpPr>
          <p:spPr>
            <a:xfrm flipV="1">
              <a:off x="3482640" y="3585960"/>
              <a:ext cx="0" cy="56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25"/>
            <p:cNvSpPr/>
            <p:nvPr/>
          </p:nvSpPr>
          <p:spPr>
            <a:xfrm flipV="1">
              <a:off x="3749400" y="3576600"/>
              <a:ext cx="0" cy="58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26"/>
            <p:cNvSpPr/>
            <p:nvPr/>
          </p:nvSpPr>
          <p:spPr>
            <a:xfrm flipV="1">
              <a:off x="4005000" y="3576600"/>
              <a:ext cx="0" cy="58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27"/>
            <p:cNvSpPr/>
            <p:nvPr/>
          </p:nvSpPr>
          <p:spPr>
            <a:xfrm flipV="1">
              <a:off x="3228840" y="3576600"/>
              <a:ext cx="0" cy="56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28"/>
            <p:cNvSpPr/>
            <p:nvPr/>
          </p:nvSpPr>
          <p:spPr>
            <a:xfrm flipV="1">
              <a:off x="2973240" y="3576600"/>
              <a:ext cx="0" cy="56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Footer Placeholder 2"/>
          <p:cNvSpPr/>
          <p:nvPr/>
        </p:nvSpPr>
        <p:spPr>
          <a:xfrm>
            <a:off x="4060800" y="7081920"/>
            <a:ext cx="37670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- 136 -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Text Box 31"/>
          <p:cNvSpPr/>
          <p:nvPr/>
        </p:nvSpPr>
        <p:spPr>
          <a:xfrm>
            <a:off x="1371600" y="1068480"/>
            <a:ext cx="358128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Bookman Old Style"/>
              <a:buAutoNum type="alphaUcPeriod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Bookman Old Style"/>
              </a:rPr>
              <a:t>UPTD PENGUJIAN DAN PENERAPAN  MUTU HASIL PERIKANAN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5" name="Group 1"/>
          <p:cNvGrpSpPr/>
          <p:nvPr/>
        </p:nvGrpSpPr>
        <p:grpSpPr>
          <a:xfrm>
            <a:off x="2489040" y="2417760"/>
            <a:ext cx="6939000" cy="3389040"/>
            <a:chOff x="2489040" y="2417760"/>
            <a:chExt cx="6939000" cy="3389040"/>
          </a:xfrm>
        </p:grpSpPr>
        <p:sp>
          <p:nvSpPr>
            <p:cNvPr id="736" name="Text Box 21"/>
            <p:cNvSpPr/>
            <p:nvPr/>
          </p:nvSpPr>
          <p:spPr>
            <a:xfrm>
              <a:off x="5248080" y="2417760"/>
              <a:ext cx="1403280" cy="3445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560" rIns="115560" tIns="57960" bIns="5796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Bookman Old Style"/>
                </a:rPr>
                <a:t>KEPALA</a:t>
              </a:r>
              <a:endParaRPr b="1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7" name="Group 43"/>
            <p:cNvGrpSpPr/>
            <p:nvPr/>
          </p:nvGrpSpPr>
          <p:grpSpPr>
            <a:xfrm>
              <a:off x="2489040" y="2773080"/>
              <a:ext cx="6939000" cy="3033720"/>
              <a:chOff x="2489040" y="2773080"/>
              <a:chExt cx="6939000" cy="3033720"/>
            </a:xfrm>
          </p:grpSpPr>
          <p:sp>
            <p:nvSpPr>
              <p:cNvPr id="738" name="Text Box 6"/>
              <p:cNvSpPr/>
              <p:nvPr/>
            </p:nvSpPr>
            <p:spPr>
              <a:xfrm>
                <a:off x="7645320" y="3392280"/>
                <a:ext cx="1782720" cy="50580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ts val="1599"/>
                  </a:lnSpc>
                  <a:spcBef>
                    <a:spcPts val="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d-ID" sz="1000" spc="-1" strike="noStrike">
                    <a:solidFill>
                      <a:srgbClr val="000000"/>
                    </a:solidFill>
                    <a:latin typeface="Bookman Old Style"/>
                  </a:rPr>
                  <a:t>KASUBAG 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1599"/>
                  </a:lnSpc>
                  <a:spcBef>
                    <a:spcPts val="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d-ID" sz="1000" spc="-1" strike="noStrike">
                    <a:solidFill>
                      <a:srgbClr val="000000"/>
                    </a:solidFill>
                    <a:latin typeface="Bookman Old Style"/>
                  </a:rPr>
                  <a:t>TATA USAHA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Line 67"/>
              <p:cNvSpPr/>
              <p:nvPr/>
            </p:nvSpPr>
            <p:spPr>
              <a:xfrm>
                <a:off x="3365640" y="3157200"/>
                <a:ext cx="5171040" cy="7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37440" bIns="-3744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Line 69"/>
              <p:cNvSpPr/>
              <p:nvPr/>
            </p:nvSpPr>
            <p:spPr>
              <a:xfrm>
                <a:off x="8536680" y="3157200"/>
                <a:ext cx="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Line 90"/>
              <p:cNvSpPr/>
              <p:nvPr/>
            </p:nvSpPr>
            <p:spPr>
              <a:xfrm>
                <a:off x="5951160" y="2773080"/>
                <a:ext cx="0" cy="2290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Line 69"/>
              <p:cNvSpPr/>
              <p:nvPr/>
            </p:nvSpPr>
            <p:spPr>
              <a:xfrm>
                <a:off x="3365640" y="3157200"/>
                <a:ext cx="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Text Box 6"/>
              <p:cNvSpPr/>
              <p:nvPr/>
            </p:nvSpPr>
            <p:spPr>
              <a:xfrm>
                <a:off x="6397560" y="5299200"/>
                <a:ext cx="2852640" cy="50580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ts val="1599"/>
                  </a:lnSpc>
                  <a:spcBef>
                    <a:spcPts val="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Bookman Old Style"/>
                  </a:rPr>
                  <a:t>SEKSI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1599"/>
                  </a:lnSpc>
                  <a:spcBef>
                    <a:spcPts val="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Bookman Old Style"/>
                  </a:rPr>
                  <a:t>PENGENDALIAN MUTU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Line 67"/>
              <p:cNvSpPr/>
              <p:nvPr/>
            </p:nvSpPr>
            <p:spPr>
              <a:xfrm flipV="1">
                <a:off x="4145760" y="5063760"/>
                <a:ext cx="36774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43920" bIns="-4392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Line 69"/>
              <p:cNvSpPr/>
              <p:nvPr/>
            </p:nvSpPr>
            <p:spPr>
              <a:xfrm>
                <a:off x="7823520" y="5063760"/>
                <a:ext cx="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Text Box 6"/>
              <p:cNvSpPr/>
              <p:nvPr/>
            </p:nvSpPr>
            <p:spPr>
              <a:xfrm>
                <a:off x="2652480" y="5301000"/>
                <a:ext cx="2852640" cy="50580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ts val="1599"/>
                  </a:lnSpc>
                  <a:spcBef>
                    <a:spcPts val="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Bookman Old Style"/>
                  </a:rPr>
                  <a:t>SEKSI 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1599"/>
                  </a:lnSpc>
                  <a:spcBef>
                    <a:spcPts val="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Bookman Old Style"/>
                  </a:rPr>
                  <a:t>PENGUJIAN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Line 69"/>
              <p:cNvSpPr/>
              <p:nvPr/>
            </p:nvSpPr>
            <p:spPr>
              <a:xfrm>
                <a:off x="4157280" y="5063760"/>
                <a:ext cx="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Text Box 17"/>
              <p:cNvSpPr/>
              <p:nvPr/>
            </p:nvSpPr>
            <p:spPr>
              <a:xfrm>
                <a:off x="2489040" y="3385800"/>
                <a:ext cx="1782720" cy="3963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Bookman Old Style"/>
                  </a:rPr>
                  <a:t>KELOMPOK JABATAN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Bookman Old Style"/>
                  </a:rPr>
                  <a:t>FUNGSIONAL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Line 18"/>
              <p:cNvSpPr/>
              <p:nvPr/>
            </p:nvSpPr>
            <p:spPr>
              <a:xfrm>
                <a:off x="2489040" y="4007160"/>
                <a:ext cx="1783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45360" bIns="-45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Line 19"/>
              <p:cNvSpPr/>
              <p:nvPr/>
            </p:nvSpPr>
            <p:spPr>
              <a:xfrm>
                <a:off x="2489040" y="4202640"/>
                <a:ext cx="1783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45360" bIns="-45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Line 20"/>
              <p:cNvSpPr/>
              <p:nvPr/>
            </p:nvSpPr>
            <p:spPr>
              <a:xfrm>
                <a:off x="2489040" y="4386960"/>
                <a:ext cx="1783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45360" bIns="-45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Line 21"/>
              <p:cNvSpPr/>
              <p:nvPr/>
            </p:nvSpPr>
            <p:spPr>
              <a:xfrm flipV="1">
                <a:off x="2489040" y="3800880"/>
                <a:ext cx="0" cy="587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Line 22"/>
              <p:cNvSpPr/>
              <p:nvPr/>
            </p:nvSpPr>
            <p:spPr>
              <a:xfrm flipV="1">
                <a:off x="2745360" y="3800880"/>
                <a:ext cx="0" cy="587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Line 23"/>
              <p:cNvSpPr/>
              <p:nvPr/>
            </p:nvSpPr>
            <p:spPr>
              <a:xfrm flipV="1">
                <a:off x="4262400" y="3800880"/>
                <a:ext cx="0" cy="587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Line 24"/>
              <p:cNvSpPr/>
              <p:nvPr/>
            </p:nvSpPr>
            <p:spPr>
              <a:xfrm flipV="1">
                <a:off x="3482640" y="3809880"/>
                <a:ext cx="0" cy="567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Line 25"/>
              <p:cNvSpPr/>
              <p:nvPr/>
            </p:nvSpPr>
            <p:spPr>
              <a:xfrm flipV="1">
                <a:off x="3750120" y="3800880"/>
                <a:ext cx="0" cy="587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Line 26"/>
              <p:cNvSpPr/>
              <p:nvPr/>
            </p:nvSpPr>
            <p:spPr>
              <a:xfrm flipV="1">
                <a:off x="4004640" y="3800880"/>
                <a:ext cx="0" cy="587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Line 27"/>
              <p:cNvSpPr/>
              <p:nvPr/>
            </p:nvSpPr>
            <p:spPr>
              <a:xfrm flipV="1">
                <a:off x="3228120" y="3800520"/>
                <a:ext cx="0" cy="567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Line 28"/>
              <p:cNvSpPr/>
              <p:nvPr/>
            </p:nvSpPr>
            <p:spPr>
              <a:xfrm flipV="1">
                <a:off x="2973600" y="3800520"/>
                <a:ext cx="0" cy="567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0" name="Footer Placeholder 2"/>
          <p:cNvSpPr/>
          <p:nvPr/>
        </p:nvSpPr>
        <p:spPr>
          <a:xfrm>
            <a:off x="4060800" y="7081920"/>
            <a:ext cx="37670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- 137 -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Text Box 31"/>
          <p:cNvSpPr/>
          <p:nvPr/>
        </p:nvSpPr>
        <p:spPr>
          <a:xfrm>
            <a:off x="1371600" y="1068480"/>
            <a:ext cx="3429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Bookman Old Style"/>
              <a:buAutoNum type="alphaUcPeriod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Bookman Old Style"/>
              </a:rPr>
              <a:t>UPTD PRODUKSI PERIKANAN BUDIDAYA AIR PAYAU DAN LAUT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2" name="Group 1"/>
          <p:cNvGrpSpPr/>
          <p:nvPr/>
        </p:nvGrpSpPr>
        <p:grpSpPr>
          <a:xfrm>
            <a:off x="2489040" y="2244600"/>
            <a:ext cx="6939000" cy="3390120"/>
            <a:chOff x="2489040" y="2244600"/>
            <a:chExt cx="6939000" cy="3390120"/>
          </a:xfrm>
        </p:grpSpPr>
        <p:sp>
          <p:nvSpPr>
            <p:cNvPr id="763" name="Text Box 21"/>
            <p:cNvSpPr/>
            <p:nvPr/>
          </p:nvSpPr>
          <p:spPr>
            <a:xfrm>
              <a:off x="5248080" y="2244600"/>
              <a:ext cx="1403280" cy="3445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560" rIns="115560" tIns="57960" bIns="5796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Bookman Old Style"/>
                </a:rPr>
                <a:t>KEPALA</a:t>
              </a:r>
              <a:endParaRPr b="1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4" name="Group 43"/>
            <p:cNvGrpSpPr/>
            <p:nvPr/>
          </p:nvGrpSpPr>
          <p:grpSpPr>
            <a:xfrm>
              <a:off x="2489040" y="2599920"/>
              <a:ext cx="6939000" cy="3034800"/>
              <a:chOff x="2489040" y="2599920"/>
              <a:chExt cx="6939000" cy="3034800"/>
            </a:xfrm>
          </p:grpSpPr>
          <p:sp>
            <p:nvSpPr>
              <p:cNvPr id="765" name="Text Box 6"/>
              <p:cNvSpPr/>
              <p:nvPr/>
            </p:nvSpPr>
            <p:spPr>
              <a:xfrm>
                <a:off x="7645320" y="3219120"/>
                <a:ext cx="1782720" cy="5072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ts val="1599"/>
                  </a:lnSpc>
                  <a:spcBef>
                    <a:spcPts val="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d-ID" sz="1200" spc="-1" strike="noStrike">
                    <a:solidFill>
                      <a:srgbClr val="000000"/>
                    </a:solidFill>
                    <a:latin typeface="Bookman Old Style"/>
                  </a:rPr>
                  <a:t>KASUBAG 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1599"/>
                  </a:lnSpc>
                  <a:spcBef>
                    <a:spcPts val="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d-ID" sz="1200" spc="-1" strike="noStrike">
                    <a:solidFill>
                      <a:srgbClr val="000000"/>
                    </a:solidFill>
                    <a:latin typeface="Bookman Old Style"/>
                  </a:rPr>
                  <a:t>TATA USAHA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Line 67"/>
              <p:cNvSpPr/>
              <p:nvPr/>
            </p:nvSpPr>
            <p:spPr>
              <a:xfrm>
                <a:off x="3365640" y="2984040"/>
                <a:ext cx="5171040" cy="7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37440" bIns="-3744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Line 69"/>
              <p:cNvSpPr/>
              <p:nvPr/>
            </p:nvSpPr>
            <p:spPr>
              <a:xfrm>
                <a:off x="8536680" y="2984040"/>
                <a:ext cx="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Line 90"/>
              <p:cNvSpPr/>
              <p:nvPr/>
            </p:nvSpPr>
            <p:spPr>
              <a:xfrm>
                <a:off x="5951160" y="2599920"/>
                <a:ext cx="0" cy="2290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Line 69"/>
              <p:cNvSpPr/>
              <p:nvPr/>
            </p:nvSpPr>
            <p:spPr>
              <a:xfrm>
                <a:off x="3365640" y="2984040"/>
                <a:ext cx="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Text Box 6"/>
              <p:cNvSpPr/>
              <p:nvPr/>
            </p:nvSpPr>
            <p:spPr>
              <a:xfrm>
                <a:off x="6397560" y="5126040"/>
                <a:ext cx="2852640" cy="5072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ts val="1599"/>
                  </a:lnSpc>
                  <a:spcBef>
                    <a:spcPts val="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Bookman Old Style"/>
                  </a:rPr>
                  <a:t>SEKSI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1599"/>
                  </a:lnSpc>
                  <a:spcBef>
                    <a:spcPts val="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Bookman Old Style"/>
                  </a:rPr>
                  <a:t>PELAYANAN TEKNIS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67"/>
              <p:cNvSpPr/>
              <p:nvPr/>
            </p:nvSpPr>
            <p:spPr>
              <a:xfrm flipV="1">
                <a:off x="4145760" y="4890600"/>
                <a:ext cx="36774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43920" bIns="-4392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Line 69"/>
              <p:cNvSpPr/>
              <p:nvPr/>
            </p:nvSpPr>
            <p:spPr>
              <a:xfrm>
                <a:off x="7823520" y="4890600"/>
                <a:ext cx="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Text Box 6"/>
              <p:cNvSpPr/>
              <p:nvPr/>
            </p:nvSpPr>
            <p:spPr>
              <a:xfrm>
                <a:off x="2652480" y="5127480"/>
                <a:ext cx="2852640" cy="5072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ts val="1599"/>
                  </a:lnSpc>
                  <a:spcBef>
                    <a:spcPts val="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Bookman Old Style"/>
                  </a:rPr>
                  <a:t>SEKSI 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1599"/>
                  </a:lnSpc>
                  <a:spcBef>
                    <a:spcPts val="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Bookman Old Style"/>
                  </a:rPr>
                  <a:t>PRODUKSI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69"/>
              <p:cNvSpPr/>
              <p:nvPr/>
            </p:nvSpPr>
            <p:spPr>
              <a:xfrm>
                <a:off x="4157280" y="4890600"/>
                <a:ext cx="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Text Box 17"/>
              <p:cNvSpPr/>
              <p:nvPr/>
            </p:nvSpPr>
            <p:spPr>
              <a:xfrm>
                <a:off x="2489040" y="3212640"/>
                <a:ext cx="1782720" cy="3963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Bookman Old Style"/>
                  </a:rPr>
                  <a:t>KELOMPOK JABATAN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Bookman Old Style"/>
                  </a:rPr>
                  <a:t>FUNGSIONAL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Line 18"/>
              <p:cNvSpPr/>
              <p:nvPr/>
            </p:nvSpPr>
            <p:spPr>
              <a:xfrm>
                <a:off x="2489040" y="3834000"/>
                <a:ext cx="1783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45360" bIns="-45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Line 19"/>
              <p:cNvSpPr/>
              <p:nvPr/>
            </p:nvSpPr>
            <p:spPr>
              <a:xfrm>
                <a:off x="2489040" y="4029480"/>
                <a:ext cx="1783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45360" bIns="-45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Line 20"/>
              <p:cNvSpPr/>
              <p:nvPr/>
            </p:nvSpPr>
            <p:spPr>
              <a:xfrm>
                <a:off x="2489040" y="4213800"/>
                <a:ext cx="1783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45360" bIns="-45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Line 21"/>
              <p:cNvSpPr/>
              <p:nvPr/>
            </p:nvSpPr>
            <p:spPr>
              <a:xfrm flipV="1">
                <a:off x="2489040" y="3627720"/>
                <a:ext cx="0" cy="587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Line 22"/>
              <p:cNvSpPr/>
              <p:nvPr/>
            </p:nvSpPr>
            <p:spPr>
              <a:xfrm flipV="1">
                <a:off x="2745360" y="3627720"/>
                <a:ext cx="0" cy="587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Line 23"/>
              <p:cNvSpPr/>
              <p:nvPr/>
            </p:nvSpPr>
            <p:spPr>
              <a:xfrm flipV="1">
                <a:off x="4262400" y="3627720"/>
                <a:ext cx="0" cy="587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Line 24"/>
              <p:cNvSpPr/>
              <p:nvPr/>
            </p:nvSpPr>
            <p:spPr>
              <a:xfrm flipV="1">
                <a:off x="3482640" y="3636720"/>
                <a:ext cx="0" cy="567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Line 25"/>
              <p:cNvSpPr/>
              <p:nvPr/>
            </p:nvSpPr>
            <p:spPr>
              <a:xfrm flipV="1">
                <a:off x="3750120" y="3627720"/>
                <a:ext cx="0" cy="587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Line 26"/>
              <p:cNvSpPr/>
              <p:nvPr/>
            </p:nvSpPr>
            <p:spPr>
              <a:xfrm flipV="1">
                <a:off x="4004640" y="3627720"/>
                <a:ext cx="0" cy="587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Line 27"/>
              <p:cNvSpPr/>
              <p:nvPr/>
            </p:nvSpPr>
            <p:spPr>
              <a:xfrm flipV="1">
                <a:off x="3228120" y="3627360"/>
                <a:ext cx="0" cy="567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Line 28"/>
              <p:cNvSpPr/>
              <p:nvPr/>
            </p:nvSpPr>
            <p:spPr>
              <a:xfrm flipV="1">
                <a:off x="2973600" y="3627360"/>
                <a:ext cx="0" cy="567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7" name="Footer Placeholder 2"/>
          <p:cNvSpPr/>
          <p:nvPr/>
        </p:nvSpPr>
        <p:spPr>
          <a:xfrm>
            <a:off x="4060800" y="7081920"/>
            <a:ext cx="37670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- 138 -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Text Box 31"/>
          <p:cNvSpPr/>
          <p:nvPr/>
        </p:nvSpPr>
        <p:spPr>
          <a:xfrm>
            <a:off x="1371600" y="1068480"/>
            <a:ext cx="31845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Bookman Old Style"/>
              <a:buAutoNum type="alphaU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UPTD PELABUHAN PERIKANAN PANTAI LABUA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Text Box 21"/>
          <p:cNvSpPr/>
          <p:nvPr/>
        </p:nvSpPr>
        <p:spPr>
          <a:xfrm>
            <a:off x="5248440" y="2205000"/>
            <a:ext cx="1403280" cy="344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Bookman Old Style"/>
              </a:rPr>
              <a:t>KEPALA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0" name="Group 43"/>
          <p:cNvGrpSpPr/>
          <p:nvPr/>
        </p:nvGrpSpPr>
        <p:grpSpPr>
          <a:xfrm>
            <a:off x="2489040" y="2544840"/>
            <a:ext cx="6939000" cy="3033360"/>
            <a:chOff x="2489040" y="2544840"/>
            <a:chExt cx="6939000" cy="3033360"/>
          </a:xfrm>
        </p:grpSpPr>
        <p:sp>
          <p:nvSpPr>
            <p:cNvPr id="791" name="Text Box 6"/>
            <p:cNvSpPr/>
            <p:nvPr/>
          </p:nvSpPr>
          <p:spPr>
            <a:xfrm>
              <a:off x="7645320" y="3164040"/>
              <a:ext cx="1782720" cy="505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000" spc="-1" strike="noStrike">
                  <a:solidFill>
                    <a:srgbClr val="000000"/>
                  </a:solidFill>
                  <a:latin typeface="Bookman Old Style"/>
                </a:rPr>
                <a:t>KASUBAG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000" spc="-1" strike="noStrike">
                  <a:solidFill>
                    <a:srgbClr val="000000"/>
                  </a:solidFill>
                  <a:latin typeface="Bookman Old Style"/>
                </a:rPr>
                <a:t>TATA USAHA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Line 67"/>
            <p:cNvSpPr/>
            <p:nvPr/>
          </p:nvSpPr>
          <p:spPr>
            <a:xfrm>
              <a:off x="3365640" y="2928960"/>
              <a:ext cx="5171040" cy="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37440" bIns="-374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Line 69"/>
            <p:cNvSpPr/>
            <p:nvPr/>
          </p:nvSpPr>
          <p:spPr>
            <a:xfrm>
              <a:off x="8536680" y="292896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Line 90"/>
            <p:cNvSpPr/>
            <p:nvPr/>
          </p:nvSpPr>
          <p:spPr>
            <a:xfrm>
              <a:off x="5951160" y="2544840"/>
              <a:ext cx="0" cy="2290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Line 69"/>
            <p:cNvSpPr/>
            <p:nvPr/>
          </p:nvSpPr>
          <p:spPr>
            <a:xfrm>
              <a:off x="3365640" y="292896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Text Box 6"/>
            <p:cNvSpPr/>
            <p:nvPr/>
          </p:nvSpPr>
          <p:spPr>
            <a:xfrm>
              <a:off x="6397560" y="5070600"/>
              <a:ext cx="2852640" cy="505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SEKSI TATA KELOLA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DAN PELAYANAN USAHA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Line 67"/>
            <p:cNvSpPr/>
            <p:nvPr/>
          </p:nvSpPr>
          <p:spPr>
            <a:xfrm flipV="1">
              <a:off x="4145760" y="4835160"/>
              <a:ext cx="36774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3920" bIns="-43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Line 69"/>
            <p:cNvSpPr/>
            <p:nvPr/>
          </p:nvSpPr>
          <p:spPr>
            <a:xfrm>
              <a:off x="7823520" y="483516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Text Box 6"/>
            <p:cNvSpPr/>
            <p:nvPr/>
          </p:nvSpPr>
          <p:spPr>
            <a:xfrm>
              <a:off x="2652480" y="5072400"/>
              <a:ext cx="2852640" cy="505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SEKSI OPERASIONAL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PELABUHAN DAN KESYAHBANDARAN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Line 69"/>
            <p:cNvSpPr/>
            <p:nvPr/>
          </p:nvSpPr>
          <p:spPr>
            <a:xfrm>
              <a:off x="4157280" y="483516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Text Box 17"/>
            <p:cNvSpPr/>
            <p:nvPr/>
          </p:nvSpPr>
          <p:spPr>
            <a:xfrm>
              <a:off x="2489040" y="3157560"/>
              <a:ext cx="1782720" cy="396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KELOMPOK JABATAN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FUNGSIONAL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Line 18"/>
            <p:cNvSpPr/>
            <p:nvPr/>
          </p:nvSpPr>
          <p:spPr>
            <a:xfrm>
              <a:off x="2489040" y="3778920"/>
              <a:ext cx="178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Line 19"/>
            <p:cNvSpPr/>
            <p:nvPr/>
          </p:nvSpPr>
          <p:spPr>
            <a:xfrm>
              <a:off x="2489040" y="3974400"/>
              <a:ext cx="178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Line 20"/>
            <p:cNvSpPr/>
            <p:nvPr/>
          </p:nvSpPr>
          <p:spPr>
            <a:xfrm>
              <a:off x="2489040" y="4149000"/>
              <a:ext cx="178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Line 21"/>
            <p:cNvSpPr/>
            <p:nvPr/>
          </p:nvSpPr>
          <p:spPr>
            <a:xfrm flipV="1">
              <a:off x="2489040" y="3572280"/>
              <a:ext cx="0" cy="58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Line 22"/>
            <p:cNvSpPr/>
            <p:nvPr/>
          </p:nvSpPr>
          <p:spPr>
            <a:xfrm flipV="1">
              <a:off x="2745360" y="3572280"/>
              <a:ext cx="0" cy="58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Line 23"/>
            <p:cNvSpPr/>
            <p:nvPr/>
          </p:nvSpPr>
          <p:spPr>
            <a:xfrm flipV="1">
              <a:off x="4262400" y="3572280"/>
              <a:ext cx="0" cy="58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Line 24"/>
            <p:cNvSpPr/>
            <p:nvPr/>
          </p:nvSpPr>
          <p:spPr>
            <a:xfrm flipV="1">
              <a:off x="3482640" y="3581640"/>
              <a:ext cx="0" cy="567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Line 25"/>
            <p:cNvSpPr/>
            <p:nvPr/>
          </p:nvSpPr>
          <p:spPr>
            <a:xfrm flipV="1">
              <a:off x="3750120" y="3572280"/>
              <a:ext cx="0" cy="58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Line 26"/>
            <p:cNvSpPr/>
            <p:nvPr/>
          </p:nvSpPr>
          <p:spPr>
            <a:xfrm flipV="1">
              <a:off x="4004640" y="3572280"/>
              <a:ext cx="0" cy="58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Line 27"/>
            <p:cNvSpPr/>
            <p:nvPr/>
          </p:nvSpPr>
          <p:spPr>
            <a:xfrm flipV="1">
              <a:off x="3228120" y="3571920"/>
              <a:ext cx="0" cy="567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Line 28"/>
            <p:cNvSpPr/>
            <p:nvPr/>
          </p:nvSpPr>
          <p:spPr>
            <a:xfrm flipV="1">
              <a:off x="2973600" y="3571920"/>
              <a:ext cx="0" cy="567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3" name="Footer Placeholder 2"/>
          <p:cNvSpPr/>
          <p:nvPr/>
        </p:nvSpPr>
        <p:spPr>
          <a:xfrm>
            <a:off x="4060800" y="7081920"/>
            <a:ext cx="37670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- 139 -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Text Box 31"/>
          <p:cNvSpPr/>
          <p:nvPr/>
        </p:nvSpPr>
        <p:spPr>
          <a:xfrm>
            <a:off x="1371600" y="1068480"/>
            <a:ext cx="3352680" cy="6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Bookman Old Style"/>
              <a:buAutoNum type="alphaUcPeriod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Bookman Old Style"/>
              </a:rPr>
              <a:t>UPTD PENGAWASAN DAN SERTIFIKASI BENIH TANAMAN PANGAN , HORTIKULTURA DAN PERKEBUNAN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5" name="Group 1"/>
          <p:cNvGrpSpPr/>
          <p:nvPr/>
        </p:nvGrpSpPr>
        <p:grpSpPr>
          <a:xfrm>
            <a:off x="2489040" y="2124000"/>
            <a:ext cx="6939000" cy="3583800"/>
            <a:chOff x="2489040" y="2124000"/>
            <a:chExt cx="6939000" cy="3583800"/>
          </a:xfrm>
        </p:grpSpPr>
        <p:sp>
          <p:nvSpPr>
            <p:cNvPr id="816" name="Text Box 21"/>
            <p:cNvSpPr/>
            <p:nvPr/>
          </p:nvSpPr>
          <p:spPr>
            <a:xfrm>
              <a:off x="5248080" y="2124000"/>
              <a:ext cx="1403280" cy="3445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560" rIns="115560" tIns="57960" bIns="5796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Bookman Old Style"/>
                </a:rPr>
                <a:t>KEPALA</a:t>
              </a:r>
              <a:endParaRPr b="1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7" name="Group 43"/>
            <p:cNvGrpSpPr/>
            <p:nvPr/>
          </p:nvGrpSpPr>
          <p:grpSpPr>
            <a:xfrm>
              <a:off x="2489040" y="2463480"/>
              <a:ext cx="6939000" cy="3244320"/>
              <a:chOff x="2489040" y="2463480"/>
              <a:chExt cx="6939000" cy="3244320"/>
            </a:xfrm>
          </p:grpSpPr>
          <p:sp>
            <p:nvSpPr>
              <p:cNvPr id="818" name="Text Box 6"/>
              <p:cNvSpPr/>
              <p:nvPr/>
            </p:nvSpPr>
            <p:spPr>
              <a:xfrm>
                <a:off x="7645320" y="3082680"/>
                <a:ext cx="1782720" cy="50580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ts val="1599"/>
                  </a:lnSpc>
                  <a:spcBef>
                    <a:spcPts val="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d-ID" sz="1000" spc="-1" strike="noStrike">
                    <a:solidFill>
                      <a:srgbClr val="000000"/>
                    </a:solidFill>
                    <a:latin typeface="Bookman Old Style"/>
                  </a:rPr>
                  <a:t>KASUBAG 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1599"/>
                  </a:lnSpc>
                  <a:spcBef>
                    <a:spcPts val="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d-ID" sz="1000" spc="-1" strike="noStrike">
                    <a:solidFill>
                      <a:srgbClr val="000000"/>
                    </a:solidFill>
                    <a:latin typeface="Bookman Old Style"/>
                  </a:rPr>
                  <a:t>TATA USAHA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Line 67"/>
              <p:cNvSpPr/>
              <p:nvPr/>
            </p:nvSpPr>
            <p:spPr>
              <a:xfrm>
                <a:off x="3365640" y="2847600"/>
                <a:ext cx="5171040" cy="7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37440" bIns="-3744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Line 69"/>
              <p:cNvSpPr/>
              <p:nvPr/>
            </p:nvSpPr>
            <p:spPr>
              <a:xfrm>
                <a:off x="8536680" y="2847600"/>
                <a:ext cx="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Line 90"/>
              <p:cNvSpPr/>
              <p:nvPr/>
            </p:nvSpPr>
            <p:spPr>
              <a:xfrm>
                <a:off x="5951160" y="2463480"/>
                <a:ext cx="0" cy="2290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Line 69"/>
              <p:cNvSpPr/>
              <p:nvPr/>
            </p:nvSpPr>
            <p:spPr>
              <a:xfrm>
                <a:off x="3365640" y="2847600"/>
                <a:ext cx="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Text Box 6"/>
              <p:cNvSpPr/>
              <p:nvPr/>
            </p:nvSpPr>
            <p:spPr>
              <a:xfrm>
                <a:off x="6397560" y="4989600"/>
                <a:ext cx="2852640" cy="7167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ts val="1599"/>
                  </a:lnSpc>
                  <a:spcBef>
                    <a:spcPts val="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Bookman Old Style"/>
                  </a:rPr>
                  <a:t>SEKSI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1599"/>
                  </a:lnSpc>
                  <a:spcBef>
                    <a:spcPts val="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Bookman Old Style"/>
                  </a:rPr>
                  <a:t>PELAYANAN TEKNIS 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1599"/>
                  </a:lnSpc>
                  <a:spcBef>
                    <a:spcPts val="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Bookman Old Style"/>
                  </a:rPr>
                  <a:t>HORTIKULTURA DAN PERKEBUNAN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Line 67"/>
              <p:cNvSpPr/>
              <p:nvPr/>
            </p:nvSpPr>
            <p:spPr>
              <a:xfrm flipV="1">
                <a:off x="4145760" y="4754160"/>
                <a:ext cx="36774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43920" bIns="-4392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Line 69"/>
              <p:cNvSpPr/>
              <p:nvPr/>
            </p:nvSpPr>
            <p:spPr>
              <a:xfrm>
                <a:off x="7823520" y="4754160"/>
                <a:ext cx="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Text Box 6"/>
              <p:cNvSpPr/>
              <p:nvPr/>
            </p:nvSpPr>
            <p:spPr>
              <a:xfrm>
                <a:off x="2652480" y="4991040"/>
                <a:ext cx="2852640" cy="7167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ts val="1599"/>
                  </a:lnSpc>
                  <a:spcBef>
                    <a:spcPts val="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Bookman Old Style"/>
                  </a:rPr>
                  <a:t>SEKSI 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1599"/>
                  </a:lnSpc>
                  <a:spcBef>
                    <a:spcPts val="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Bookman Old Style"/>
                  </a:rPr>
                  <a:t>PELAYANAN TEKNIS 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1599"/>
                  </a:lnSpc>
                  <a:spcBef>
                    <a:spcPts val="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Bookman Old Style"/>
                  </a:rPr>
                  <a:t>TANAMAN PANGAN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Line 69"/>
              <p:cNvSpPr/>
              <p:nvPr/>
            </p:nvSpPr>
            <p:spPr>
              <a:xfrm>
                <a:off x="4157280" y="4754160"/>
                <a:ext cx="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Text Box 17"/>
              <p:cNvSpPr/>
              <p:nvPr/>
            </p:nvSpPr>
            <p:spPr>
              <a:xfrm>
                <a:off x="2489040" y="3076200"/>
                <a:ext cx="1782720" cy="3963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Bookman Old Style"/>
                  </a:rPr>
                  <a:t>KELOMPOK JABATAN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Bookman Old Style"/>
                  </a:rPr>
                  <a:t>FUNGSIONAL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Line 18"/>
              <p:cNvSpPr/>
              <p:nvPr/>
            </p:nvSpPr>
            <p:spPr>
              <a:xfrm>
                <a:off x="2489040" y="3697560"/>
                <a:ext cx="1783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45360" bIns="-45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Line 19"/>
              <p:cNvSpPr/>
              <p:nvPr/>
            </p:nvSpPr>
            <p:spPr>
              <a:xfrm>
                <a:off x="2489040" y="3893040"/>
                <a:ext cx="1783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45360" bIns="-45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Line 20"/>
              <p:cNvSpPr/>
              <p:nvPr/>
            </p:nvSpPr>
            <p:spPr>
              <a:xfrm>
                <a:off x="2489040" y="4067640"/>
                <a:ext cx="1783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45360" bIns="-45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Line 21"/>
              <p:cNvSpPr/>
              <p:nvPr/>
            </p:nvSpPr>
            <p:spPr>
              <a:xfrm flipV="1">
                <a:off x="2489040" y="3490920"/>
                <a:ext cx="0" cy="587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Line 22"/>
              <p:cNvSpPr/>
              <p:nvPr/>
            </p:nvSpPr>
            <p:spPr>
              <a:xfrm flipV="1">
                <a:off x="2745360" y="3490920"/>
                <a:ext cx="0" cy="587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Line 23"/>
              <p:cNvSpPr/>
              <p:nvPr/>
            </p:nvSpPr>
            <p:spPr>
              <a:xfrm flipV="1">
                <a:off x="4272120" y="3490920"/>
                <a:ext cx="0" cy="587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Line 24"/>
              <p:cNvSpPr/>
              <p:nvPr/>
            </p:nvSpPr>
            <p:spPr>
              <a:xfrm flipV="1">
                <a:off x="3482640" y="3500280"/>
                <a:ext cx="0" cy="567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Line 25"/>
              <p:cNvSpPr/>
              <p:nvPr/>
            </p:nvSpPr>
            <p:spPr>
              <a:xfrm flipV="1">
                <a:off x="3750120" y="3490920"/>
                <a:ext cx="0" cy="587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Line 26"/>
              <p:cNvSpPr/>
              <p:nvPr/>
            </p:nvSpPr>
            <p:spPr>
              <a:xfrm flipV="1">
                <a:off x="4004640" y="3490920"/>
                <a:ext cx="0" cy="587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Line 27"/>
              <p:cNvSpPr/>
              <p:nvPr/>
            </p:nvSpPr>
            <p:spPr>
              <a:xfrm flipV="1">
                <a:off x="3228120" y="3490560"/>
                <a:ext cx="0" cy="567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Line 28"/>
              <p:cNvSpPr/>
              <p:nvPr/>
            </p:nvSpPr>
            <p:spPr>
              <a:xfrm flipV="1">
                <a:off x="2973600" y="3490560"/>
                <a:ext cx="0" cy="567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0" name="Footer Placeholder 2"/>
          <p:cNvSpPr/>
          <p:nvPr/>
        </p:nvSpPr>
        <p:spPr>
          <a:xfrm>
            <a:off x="4060800" y="7081920"/>
            <a:ext cx="37670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- 140 -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31"/>
          <p:cNvSpPr/>
          <p:nvPr/>
        </p:nvSpPr>
        <p:spPr>
          <a:xfrm>
            <a:off x="1371600" y="1068480"/>
            <a:ext cx="3184560" cy="6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Bookman Old Style"/>
              <a:buAutoNum type="alphaUcPeriod" startAt="2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Bookman Old Style"/>
              </a:rPr>
              <a:t>UPTD BENIH DAN PERLINDUNGAN TANAMAN PANGAN,  HORTIKULTURA DAN PERKEBUNAN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2" name="Group 1"/>
          <p:cNvGrpSpPr/>
          <p:nvPr/>
        </p:nvGrpSpPr>
        <p:grpSpPr>
          <a:xfrm>
            <a:off x="2489040" y="2514600"/>
            <a:ext cx="6939000" cy="3372840"/>
            <a:chOff x="2489040" y="2514600"/>
            <a:chExt cx="6939000" cy="3372840"/>
          </a:xfrm>
        </p:grpSpPr>
        <p:sp>
          <p:nvSpPr>
            <p:cNvPr id="843" name="Text Box 21"/>
            <p:cNvSpPr/>
            <p:nvPr/>
          </p:nvSpPr>
          <p:spPr>
            <a:xfrm>
              <a:off x="5248080" y="2514600"/>
              <a:ext cx="1403280" cy="3445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560" rIns="115560" tIns="57960" bIns="5796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Bookman Old Style"/>
                </a:rPr>
                <a:t>KEPALA</a:t>
              </a:r>
              <a:endParaRPr b="1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Text Box 6"/>
            <p:cNvSpPr/>
            <p:nvPr/>
          </p:nvSpPr>
          <p:spPr>
            <a:xfrm>
              <a:off x="7645320" y="3473280"/>
              <a:ext cx="1782720" cy="505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000" spc="-1" strike="noStrike">
                  <a:solidFill>
                    <a:srgbClr val="000000"/>
                  </a:solidFill>
                  <a:latin typeface="Bookman Old Style"/>
                </a:rPr>
                <a:t>KASUBAG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000" spc="-1" strike="noStrike">
                  <a:solidFill>
                    <a:srgbClr val="000000"/>
                  </a:solidFill>
                  <a:latin typeface="Bookman Old Style"/>
                </a:rPr>
                <a:t>TATA USAHA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Line 67"/>
            <p:cNvSpPr/>
            <p:nvPr/>
          </p:nvSpPr>
          <p:spPr>
            <a:xfrm>
              <a:off x="3365280" y="3238560"/>
              <a:ext cx="5170680" cy="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37440" bIns="-374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Line 69"/>
            <p:cNvSpPr/>
            <p:nvPr/>
          </p:nvSpPr>
          <p:spPr>
            <a:xfrm>
              <a:off x="8535960" y="323856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Line 90"/>
            <p:cNvSpPr/>
            <p:nvPr/>
          </p:nvSpPr>
          <p:spPr>
            <a:xfrm>
              <a:off x="5951520" y="2854080"/>
              <a:ext cx="0" cy="2290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Line 69"/>
            <p:cNvSpPr/>
            <p:nvPr/>
          </p:nvSpPr>
          <p:spPr>
            <a:xfrm>
              <a:off x="3365280" y="323856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Text Box 6"/>
            <p:cNvSpPr/>
            <p:nvPr/>
          </p:nvSpPr>
          <p:spPr>
            <a:xfrm>
              <a:off x="6397560" y="5380200"/>
              <a:ext cx="2852640" cy="505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SEKSI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PERLINDUNGAN TANAMAN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Line 67"/>
            <p:cNvSpPr/>
            <p:nvPr/>
          </p:nvSpPr>
          <p:spPr>
            <a:xfrm flipV="1">
              <a:off x="4146480" y="5145120"/>
              <a:ext cx="36766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3920" bIns="-43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Line 69"/>
            <p:cNvSpPr/>
            <p:nvPr/>
          </p:nvSpPr>
          <p:spPr>
            <a:xfrm>
              <a:off x="7823160" y="514512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Text Box 6"/>
            <p:cNvSpPr/>
            <p:nvPr/>
          </p:nvSpPr>
          <p:spPr>
            <a:xfrm>
              <a:off x="2652480" y="5381640"/>
              <a:ext cx="2852640" cy="505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SEKSI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PERBENIHAN TANAMAN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Line 69"/>
            <p:cNvSpPr/>
            <p:nvPr/>
          </p:nvSpPr>
          <p:spPr>
            <a:xfrm>
              <a:off x="4157280" y="514512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Text Box 17"/>
            <p:cNvSpPr/>
            <p:nvPr/>
          </p:nvSpPr>
          <p:spPr>
            <a:xfrm>
              <a:off x="2489040" y="3467160"/>
              <a:ext cx="1782720" cy="396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KELOMPOK JABATAN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FUNGSIONAL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Line 18"/>
            <p:cNvSpPr/>
            <p:nvPr/>
          </p:nvSpPr>
          <p:spPr>
            <a:xfrm>
              <a:off x="2489040" y="4087800"/>
              <a:ext cx="178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Line 19"/>
            <p:cNvSpPr/>
            <p:nvPr/>
          </p:nvSpPr>
          <p:spPr>
            <a:xfrm>
              <a:off x="2489040" y="4283280"/>
              <a:ext cx="178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Line 20"/>
            <p:cNvSpPr/>
            <p:nvPr/>
          </p:nvSpPr>
          <p:spPr>
            <a:xfrm>
              <a:off x="2489040" y="4459320"/>
              <a:ext cx="178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Line 21"/>
            <p:cNvSpPr/>
            <p:nvPr/>
          </p:nvSpPr>
          <p:spPr>
            <a:xfrm flipV="1">
              <a:off x="2489040" y="3881520"/>
              <a:ext cx="0" cy="58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Line 22"/>
            <p:cNvSpPr/>
            <p:nvPr/>
          </p:nvSpPr>
          <p:spPr>
            <a:xfrm flipV="1">
              <a:off x="2744640" y="3881520"/>
              <a:ext cx="0" cy="58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Line 23"/>
            <p:cNvSpPr/>
            <p:nvPr/>
          </p:nvSpPr>
          <p:spPr>
            <a:xfrm flipV="1">
              <a:off x="4271760" y="3881520"/>
              <a:ext cx="0" cy="58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Line 24"/>
            <p:cNvSpPr/>
            <p:nvPr/>
          </p:nvSpPr>
          <p:spPr>
            <a:xfrm flipV="1">
              <a:off x="3482640" y="3890880"/>
              <a:ext cx="0" cy="56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Line 25"/>
            <p:cNvSpPr/>
            <p:nvPr/>
          </p:nvSpPr>
          <p:spPr>
            <a:xfrm flipV="1">
              <a:off x="3749400" y="3881520"/>
              <a:ext cx="0" cy="58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Line 26"/>
            <p:cNvSpPr/>
            <p:nvPr/>
          </p:nvSpPr>
          <p:spPr>
            <a:xfrm flipV="1">
              <a:off x="4005000" y="3881520"/>
              <a:ext cx="0" cy="58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Line 27"/>
            <p:cNvSpPr/>
            <p:nvPr/>
          </p:nvSpPr>
          <p:spPr>
            <a:xfrm flipV="1">
              <a:off x="3228840" y="3881520"/>
              <a:ext cx="0" cy="56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Line 28"/>
            <p:cNvSpPr/>
            <p:nvPr/>
          </p:nvSpPr>
          <p:spPr>
            <a:xfrm flipV="1">
              <a:off x="2973240" y="3881520"/>
              <a:ext cx="0" cy="56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6" name="Footer Placeholder 2"/>
          <p:cNvSpPr/>
          <p:nvPr/>
        </p:nvSpPr>
        <p:spPr>
          <a:xfrm>
            <a:off x="4060800" y="7081920"/>
            <a:ext cx="37670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- 141 -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Text Box 31"/>
          <p:cNvSpPr/>
          <p:nvPr/>
        </p:nvSpPr>
        <p:spPr>
          <a:xfrm>
            <a:off x="1387440" y="1220760"/>
            <a:ext cx="333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Bookman Old Style"/>
              <a:buAutoNum type="alphaU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Bookman Old Style"/>
              </a:rPr>
              <a:t>UPTD PENGUJIAN PAKAN DAN PEMBIBITAN TERNAK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8" name="Group 1"/>
          <p:cNvGrpSpPr/>
          <p:nvPr/>
        </p:nvGrpSpPr>
        <p:grpSpPr>
          <a:xfrm>
            <a:off x="5059440" y="2362320"/>
            <a:ext cx="3508200" cy="3236400"/>
            <a:chOff x="5059440" y="2362320"/>
            <a:chExt cx="3508200" cy="3236400"/>
          </a:xfrm>
        </p:grpSpPr>
        <p:sp>
          <p:nvSpPr>
            <p:cNvPr id="869" name="Text Box 21"/>
            <p:cNvSpPr/>
            <p:nvPr/>
          </p:nvSpPr>
          <p:spPr>
            <a:xfrm>
              <a:off x="5248080" y="2362320"/>
              <a:ext cx="1403280" cy="3445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560" rIns="115560" tIns="57960" bIns="5796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Bookman Old Style"/>
                </a:rPr>
                <a:t>KEPALA</a:t>
              </a:r>
              <a:endParaRPr b="1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Text Box 6"/>
            <p:cNvSpPr/>
            <p:nvPr/>
          </p:nvSpPr>
          <p:spPr>
            <a:xfrm>
              <a:off x="6607080" y="3492360"/>
              <a:ext cx="1960560" cy="505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000" spc="-1" strike="noStrike">
                  <a:solidFill>
                    <a:srgbClr val="000000"/>
                  </a:solidFill>
                  <a:latin typeface="Bookman Old Style"/>
                </a:rPr>
                <a:t>KASUBAG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000" spc="-1" strike="noStrike">
                  <a:solidFill>
                    <a:srgbClr val="000000"/>
                  </a:solidFill>
                  <a:latin typeface="Bookman Old Style"/>
                </a:rPr>
                <a:t>TATA USAHA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Line 67"/>
            <p:cNvSpPr/>
            <p:nvPr/>
          </p:nvSpPr>
          <p:spPr>
            <a:xfrm>
              <a:off x="5943600" y="3217680"/>
              <a:ext cx="1647720" cy="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37440" bIns="-374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Line 69"/>
            <p:cNvSpPr/>
            <p:nvPr/>
          </p:nvSpPr>
          <p:spPr>
            <a:xfrm>
              <a:off x="7586640" y="3211560"/>
              <a:ext cx="0" cy="27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Line 90"/>
            <p:cNvSpPr/>
            <p:nvPr/>
          </p:nvSpPr>
          <p:spPr>
            <a:xfrm>
              <a:off x="5943600" y="2733480"/>
              <a:ext cx="0" cy="1893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Text Box 17"/>
            <p:cNvSpPr/>
            <p:nvPr/>
          </p:nvSpPr>
          <p:spPr>
            <a:xfrm>
              <a:off x="5059440" y="4597560"/>
              <a:ext cx="1782720" cy="396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KELOMPOK JABATAN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FUNGSIONAL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Line 18"/>
            <p:cNvSpPr/>
            <p:nvPr/>
          </p:nvSpPr>
          <p:spPr>
            <a:xfrm>
              <a:off x="5059440" y="5218200"/>
              <a:ext cx="178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Line 19"/>
            <p:cNvSpPr/>
            <p:nvPr/>
          </p:nvSpPr>
          <p:spPr>
            <a:xfrm>
              <a:off x="5059440" y="5413680"/>
              <a:ext cx="178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Line 20"/>
            <p:cNvSpPr/>
            <p:nvPr/>
          </p:nvSpPr>
          <p:spPr>
            <a:xfrm>
              <a:off x="5059440" y="5588280"/>
              <a:ext cx="178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Line 21"/>
            <p:cNvSpPr/>
            <p:nvPr/>
          </p:nvSpPr>
          <p:spPr>
            <a:xfrm flipV="1">
              <a:off x="5059440" y="5011560"/>
              <a:ext cx="0" cy="58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Line 22"/>
            <p:cNvSpPr/>
            <p:nvPr/>
          </p:nvSpPr>
          <p:spPr>
            <a:xfrm flipV="1">
              <a:off x="5315040" y="5011560"/>
              <a:ext cx="0" cy="58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Line 23"/>
            <p:cNvSpPr/>
            <p:nvPr/>
          </p:nvSpPr>
          <p:spPr>
            <a:xfrm flipV="1">
              <a:off x="6842160" y="5011560"/>
              <a:ext cx="0" cy="58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Line 24"/>
            <p:cNvSpPr/>
            <p:nvPr/>
          </p:nvSpPr>
          <p:spPr>
            <a:xfrm flipV="1">
              <a:off x="6053040" y="5021280"/>
              <a:ext cx="0" cy="566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Line 25"/>
            <p:cNvSpPr/>
            <p:nvPr/>
          </p:nvSpPr>
          <p:spPr>
            <a:xfrm flipV="1">
              <a:off x="6319800" y="5011560"/>
              <a:ext cx="0" cy="58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Line 26"/>
            <p:cNvSpPr/>
            <p:nvPr/>
          </p:nvSpPr>
          <p:spPr>
            <a:xfrm flipV="1">
              <a:off x="6575400" y="5011560"/>
              <a:ext cx="0" cy="58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Line 27"/>
            <p:cNvSpPr/>
            <p:nvPr/>
          </p:nvSpPr>
          <p:spPr>
            <a:xfrm flipV="1">
              <a:off x="5799240" y="5011920"/>
              <a:ext cx="0" cy="566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Line 28"/>
            <p:cNvSpPr/>
            <p:nvPr/>
          </p:nvSpPr>
          <p:spPr>
            <a:xfrm flipV="1">
              <a:off x="5543640" y="5011920"/>
              <a:ext cx="0" cy="566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6" name="Footer Placeholder 2"/>
          <p:cNvSpPr/>
          <p:nvPr/>
        </p:nvSpPr>
        <p:spPr>
          <a:xfrm>
            <a:off x="4060800" y="7081920"/>
            <a:ext cx="37670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- 142 -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Text Box 97"/>
          <p:cNvSpPr/>
          <p:nvPr/>
        </p:nvSpPr>
        <p:spPr>
          <a:xfrm>
            <a:off x="1828800" y="1160640"/>
            <a:ext cx="29941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marL="228600" indent="-22860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Bookman Old Style"/>
              <a:buAutoNum type="alphaUcPeriod" startAt="2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Bookman Old Style"/>
              </a:rPr>
              <a:t>UPTD </a:t>
            </a:r>
            <a:r>
              <a:rPr b="1" lang="fi-FI" sz="1100" spc="-1" strike="noStrike">
                <a:solidFill>
                  <a:srgbClr val="000000"/>
                </a:solidFill>
                <a:latin typeface="Bookman Old Style"/>
              </a:rPr>
              <a:t>PELAYANAN DAN PENGUJIAN VETERINER</a:t>
            </a:r>
            <a:r>
              <a:rPr b="1" lang="en-US" sz="11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8" name="Group 1"/>
          <p:cNvGrpSpPr/>
          <p:nvPr/>
        </p:nvGrpSpPr>
        <p:grpSpPr>
          <a:xfrm>
            <a:off x="5029200" y="2496960"/>
            <a:ext cx="3508200" cy="3217680"/>
            <a:chOff x="5029200" y="2496960"/>
            <a:chExt cx="3508200" cy="3217680"/>
          </a:xfrm>
        </p:grpSpPr>
        <p:sp>
          <p:nvSpPr>
            <p:cNvPr id="889" name="Text Box 6"/>
            <p:cNvSpPr/>
            <p:nvPr/>
          </p:nvSpPr>
          <p:spPr>
            <a:xfrm>
              <a:off x="6576840" y="3612960"/>
              <a:ext cx="1960560" cy="505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000" spc="-1" strike="noStrike">
                  <a:solidFill>
                    <a:srgbClr val="000000"/>
                  </a:solidFill>
                  <a:latin typeface="Bookman Old Style"/>
                </a:rPr>
                <a:t>KASUBAG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000" spc="-1" strike="noStrike">
                  <a:solidFill>
                    <a:srgbClr val="000000"/>
                  </a:solidFill>
                  <a:latin typeface="Bookman Old Style"/>
                </a:rPr>
                <a:t>TATA USAHA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Line 67"/>
            <p:cNvSpPr/>
            <p:nvPr/>
          </p:nvSpPr>
          <p:spPr>
            <a:xfrm>
              <a:off x="5913360" y="3333600"/>
              <a:ext cx="1647720" cy="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37440" bIns="-374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Line 69"/>
            <p:cNvSpPr/>
            <p:nvPr/>
          </p:nvSpPr>
          <p:spPr>
            <a:xfrm>
              <a:off x="7556400" y="3331800"/>
              <a:ext cx="0" cy="27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Line 90"/>
            <p:cNvSpPr/>
            <p:nvPr/>
          </p:nvSpPr>
          <p:spPr>
            <a:xfrm>
              <a:off x="5913360" y="2849400"/>
              <a:ext cx="0" cy="1893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Text Box 17"/>
            <p:cNvSpPr/>
            <p:nvPr/>
          </p:nvSpPr>
          <p:spPr>
            <a:xfrm>
              <a:off x="5029200" y="4713120"/>
              <a:ext cx="1782720" cy="396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KELOMPOK JABATAN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FUNGSIONAL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Line 18"/>
            <p:cNvSpPr/>
            <p:nvPr/>
          </p:nvSpPr>
          <p:spPr>
            <a:xfrm>
              <a:off x="5029200" y="5334120"/>
              <a:ext cx="178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Line 19"/>
            <p:cNvSpPr/>
            <p:nvPr/>
          </p:nvSpPr>
          <p:spPr>
            <a:xfrm>
              <a:off x="5029200" y="5529240"/>
              <a:ext cx="178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Line 20"/>
            <p:cNvSpPr/>
            <p:nvPr/>
          </p:nvSpPr>
          <p:spPr>
            <a:xfrm>
              <a:off x="5029200" y="5704200"/>
              <a:ext cx="178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Line 21"/>
            <p:cNvSpPr/>
            <p:nvPr/>
          </p:nvSpPr>
          <p:spPr>
            <a:xfrm flipV="1">
              <a:off x="5029200" y="5127480"/>
              <a:ext cx="0" cy="58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Line 22"/>
            <p:cNvSpPr/>
            <p:nvPr/>
          </p:nvSpPr>
          <p:spPr>
            <a:xfrm flipV="1">
              <a:off x="5284800" y="5127480"/>
              <a:ext cx="0" cy="58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23"/>
            <p:cNvSpPr/>
            <p:nvPr/>
          </p:nvSpPr>
          <p:spPr>
            <a:xfrm flipV="1">
              <a:off x="6811920" y="5127480"/>
              <a:ext cx="0" cy="58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Line 24"/>
            <p:cNvSpPr/>
            <p:nvPr/>
          </p:nvSpPr>
          <p:spPr>
            <a:xfrm flipV="1">
              <a:off x="6022800" y="5137200"/>
              <a:ext cx="0" cy="566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Line 25"/>
            <p:cNvSpPr/>
            <p:nvPr/>
          </p:nvSpPr>
          <p:spPr>
            <a:xfrm flipV="1">
              <a:off x="6289560" y="5127480"/>
              <a:ext cx="0" cy="58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Line 26"/>
            <p:cNvSpPr/>
            <p:nvPr/>
          </p:nvSpPr>
          <p:spPr>
            <a:xfrm flipV="1">
              <a:off x="6545160" y="5127480"/>
              <a:ext cx="0" cy="58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Line 27"/>
            <p:cNvSpPr/>
            <p:nvPr/>
          </p:nvSpPr>
          <p:spPr>
            <a:xfrm flipV="1">
              <a:off x="5769000" y="5127840"/>
              <a:ext cx="0" cy="566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Line 28"/>
            <p:cNvSpPr/>
            <p:nvPr/>
          </p:nvSpPr>
          <p:spPr>
            <a:xfrm flipV="1">
              <a:off x="5513400" y="5127840"/>
              <a:ext cx="0" cy="566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Text Box 21"/>
            <p:cNvSpPr/>
            <p:nvPr/>
          </p:nvSpPr>
          <p:spPr>
            <a:xfrm>
              <a:off x="5217840" y="2496960"/>
              <a:ext cx="1403280" cy="3445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560" rIns="115560" tIns="57960" bIns="5796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Bookman Old Style"/>
                </a:rPr>
                <a:t>KEPALA</a:t>
              </a:r>
              <a:endParaRPr b="1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6" name="Footer Placeholder 2"/>
          <p:cNvSpPr/>
          <p:nvPr/>
        </p:nvSpPr>
        <p:spPr>
          <a:xfrm>
            <a:off x="4060800" y="7081920"/>
            <a:ext cx="37670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- 143 -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31"/>
          <p:cNvSpPr/>
          <p:nvPr/>
        </p:nvSpPr>
        <p:spPr>
          <a:xfrm>
            <a:off x="1371600" y="976320"/>
            <a:ext cx="31240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marL="228600" indent="-2286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Bookman Old Style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man Old Style"/>
              </a:rPr>
              <a:t>CABANG DINAS LINGKUNGAN HIDUP DAN KEHUTANAN PROVINSI BANTEN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Group 1"/>
          <p:cNvGrpSpPr/>
          <p:nvPr/>
        </p:nvGrpSpPr>
        <p:grpSpPr>
          <a:xfrm>
            <a:off x="2003400" y="2568600"/>
            <a:ext cx="7902720" cy="3141720"/>
            <a:chOff x="2003400" y="2568600"/>
            <a:chExt cx="7902720" cy="3141720"/>
          </a:xfrm>
        </p:grpSpPr>
        <p:sp>
          <p:nvSpPr>
            <p:cNvPr id="95" name="Line 4"/>
            <p:cNvSpPr/>
            <p:nvPr/>
          </p:nvSpPr>
          <p:spPr>
            <a:xfrm>
              <a:off x="5943600" y="2925720"/>
              <a:ext cx="4680" cy="204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560" rIns="115560" tIns="57600" bIns="576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Text Box 5"/>
            <p:cNvSpPr/>
            <p:nvPr/>
          </p:nvSpPr>
          <p:spPr>
            <a:xfrm>
              <a:off x="7925040" y="2949480"/>
              <a:ext cx="1981080" cy="639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560" rIns="115560" tIns="57960" bIns="57960" anchor="t">
              <a:spAutoFit/>
            </a:bodyPr>
            <a:p>
              <a:pPr algn="ctr">
                <a:lnSpc>
                  <a:spcPts val="2024"/>
                </a:lnSpc>
                <a:spcBef>
                  <a:spcPts val="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 Old Style"/>
                </a:rPr>
                <a:t>SUB BAGIAN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2024"/>
                </a:lnSpc>
                <a:spcBef>
                  <a:spcPts val="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 Old Style"/>
                </a:rPr>
                <a:t>TATA USAHA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Text Box 6"/>
            <p:cNvSpPr/>
            <p:nvPr/>
          </p:nvSpPr>
          <p:spPr>
            <a:xfrm>
              <a:off x="2003400" y="3448080"/>
              <a:ext cx="1981080" cy="420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560" rIns="115560" tIns="57960" bIns="579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Bookman Old Style"/>
                </a:rPr>
                <a:t>KELOMPOK JABATAN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Bookman Old Style"/>
                </a:rPr>
                <a:t>FUNGSIONAL PENGAWAS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7"/>
            <p:cNvSpPr/>
            <p:nvPr/>
          </p:nvSpPr>
          <p:spPr>
            <a:xfrm>
              <a:off x="2003400" y="411624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560" rIns="115560" tIns="-57600" bIns="-576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8"/>
            <p:cNvSpPr/>
            <p:nvPr/>
          </p:nvSpPr>
          <p:spPr>
            <a:xfrm>
              <a:off x="2003400" y="433872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560" rIns="115560" tIns="-57600" bIns="-576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9"/>
            <p:cNvSpPr/>
            <p:nvPr/>
          </p:nvSpPr>
          <p:spPr>
            <a:xfrm>
              <a:off x="2003400" y="4546800"/>
              <a:ext cx="198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560" rIns="115560" tIns="-57600" bIns="-576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Line 10"/>
            <p:cNvSpPr/>
            <p:nvPr/>
          </p:nvSpPr>
          <p:spPr>
            <a:xfrm flipV="1">
              <a:off x="2003400" y="3882600"/>
              <a:ext cx="0" cy="66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560" rIns="115560" tIns="57600" bIns="576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Line 11"/>
            <p:cNvSpPr/>
            <p:nvPr/>
          </p:nvSpPr>
          <p:spPr>
            <a:xfrm flipV="1">
              <a:off x="2287440" y="3882600"/>
              <a:ext cx="0" cy="66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560" rIns="115560" tIns="57600" bIns="576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Line 12"/>
            <p:cNvSpPr/>
            <p:nvPr/>
          </p:nvSpPr>
          <p:spPr>
            <a:xfrm flipV="1">
              <a:off x="3981240" y="3882600"/>
              <a:ext cx="0" cy="66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560" rIns="115560" tIns="57600" bIns="576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Line 13"/>
            <p:cNvSpPr/>
            <p:nvPr/>
          </p:nvSpPr>
          <p:spPr>
            <a:xfrm flipV="1">
              <a:off x="3106440" y="3895200"/>
              <a:ext cx="0" cy="64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560" rIns="115560" tIns="57600" bIns="576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Line 14"/>
            <p:cNvSpPr/>
            <p:nvPr/>
          </p:nvSpPr>
          <p:spPr>
            <a:xfrm flipV="1">
              <a:off x="3405240" y="3882600"/>
              <a:ext cx="0" cy="66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560" rIns="115560" tIns="57600" bIns="576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Line 15"/>
            <p:cNvSpPr/>
            <p:nvPr/>
          </p:nvSpPr>
          <p:spPr>
            <a:xfrm flipV="1">
              <a:off x="3687840" y="3882600"/>
              <a:ext cx="0" cy="66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560" rIns="115560" tIns="57600" bIns="576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Line 16"/>
            <p:cNvSpPr/>
            <p:nvPr/>
          </p:nvSpPr>
          <p:spPr>
            <a:xfrm flipV="1">
              <a:off x="2823840" y="3882960"/>
              <a:ext cx="0" cy="64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560" rIns="115560" tIns="57600" bIns="576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Line 17"/>
            <p:cNvSpPr/>
            <p:nvPr/>
          </p:nvSpPr>
          <p:spPr>
            <a:xfrm flipV="1">
              <a:off x="2541240" y="3882960"/>
              <a:ext cx="0" cy="64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560" rIns="115560" tIns="57600" bIns="576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Line 18"/>
            <p:cNvSpPr/>
            <p:nvPr/>
          </p:nvSpPr>
          <p:spPr>
            <a:xfrm>
              <a:off x="2984400" y="3208320"/>
              <a:ext cx="4940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560" rIns="115560" tIns="-57600" bIns="-576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Line 19"/>
            <p:cNvSpPr/>
            <p:nvPr/>
          </p:nvSpPr>
          <p:spPr>
            <a:xfrm>
              <a:off x="2984400" y="3200400"/>
              <a:ext cx="0" cy="236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560" rIns="115560" tIns="57600" bIns="576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Text Box 21"/>
            <p:cNvSpPr/>
            <p:nvPr/>
          </p:nvSpPr>
          <p:spPr>
            <a:xfrm>
              <a:off x="5237280" y="2568600"/>
              <a:ext cx="1403280" cy="3906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560" rIns="115560" tIns="57960" bIns="5796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 Old Style"/>
                </a:rPr>
                <a:t>KEPALA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Line 20"/>
            <p:cNvSpPr/>
            <p:nvPr/>
          </p:nvSpPr>
          <p:spPr>
            <a:xfrm>
              <a:off x="3822480" y="4972320"/>
              <a:ext cx="4229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560" rIns="115560" tIns="-57600" bIns="-576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Text Box 22"/>
            <p:cNvSpPr/>
            <p:nvPr/>
          </p:nvSpPr>
          <p:spPr>
            <a:xfrm>
              <a:off x="2819160" y="5135760"/>
              <a:ext cx="2001960" cy="573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560" rIns="115560" tIns="57960" bIns="579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SEKSI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PENGAWASAN DAN PENGENDALIAN SDH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Line 23"/>
            <p:cNvSpPr/>
            <p:nvPr/>
          </p:nvSpPr>
          <p:spPr>
            <a:xfrm>
              <a:off x="3822480" y="4972320"/>
              <a:ext cx="0" cy="16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560" rIns="115560" tIns="57600" bIns="576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Line 24"/>
            <p:cNvSpPr/>
            <p:nvPr/>
          </p:nvSpPr>
          <p:spPr>
            <a:xfrm>
              <a:off x="8061480" y="4972320"/>
              <a:ext cx="0" cy="16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560" rIns="115560" tIns="57600" bIns="576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Text Box 26"/>
            <p:cNvSpPr/>
            <p:nvPr/>
          </p:nvSpPr>
          <p:spPr>
            <a:xfrm>
              <a:off x="6858000" y="5137200"/>
              <a:ext cx="2309760" cy="573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560" rIns="115560" tIns="57960" bIns="579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SEKSI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REHABILITASI LAHAN DAN PEMBERDAYAAN MASYARAKAT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Footer Placeholder 2"/>
          <p:cNvSpPr/>
          <p:nvPr/>
        </p:nvSpPr>
        <p:spPr>
          <a:xfrm>
            <a:off x="4060800" y="7081920"/>
            <a:ext cx="37670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- 117 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Text Box 97"/>
          <p:cNvSpPr/>
          <p:nvPr/>
        </p:nvSpPr>
        <p:spPr>
          <a:xfrm>
            <a:off x="1600200" y="1008000"/>
            <a:ext cx="32767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marL="228600" indent="-22860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Bookman Old Style"/>
              <a:buAutoNum type="alphaUcPeriod" startAt="2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Bookman Old Style"/>
              </a:rPr>
              <a:t>UPTD </a:t>
            </a:r>
            <a:r>
              <a:rPr b="1" lang="fi-FI" sz="1100" spc="-1" strike="noStrike">
                <a:solidFill>
                  <a:srgbClr val="000000"/>
                </a:solidFill>
                <a:latin typeface="Bookman Old Style"/>
              </a:rPr>
              <a:t>PENGUJIAN DAN SERTIFIKASI MUTU BARANG</a:t>
            </a:r>
            <a:r>
              <a:rPr b="1" lang="en-US" sz="11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8" name="Group 43"/>
          <p:cNvGrpSpPr/>
          <p:nvPr/>
        </p:nvGrpSpPr>
        <p:grpSpPr>
          <a:xfrm>
            <a:off x="2433600" y="2362320"/>
            <a:ext cx="6939000" cy="3371040"/>
            <a:chOff x="2433600" y="2362320"/>
            <a:chExt cx="6939000" cy="3371040"/>
          </a:xfrm>
        </p:grpSpPr>
        <p:sp>
          <p:nvSpPr>
            <p:cNvPr id="909" name="Text Box 5"/>
            <p:cNvSpPr/>
            <p:nvPr/>
          </p:nvSpPr>
          <p:spPr>
            <a:xfrm>
              <a:off x="5132160" y="2362320"/>
              <a:ext cx="1515960" cy="3200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Bookman Old Style"/>
                </a:rPr>
                <a:t>KEPALA</a:t>
              </a:r>
              <a:r>
                <a:rPr b="0" lang="en-US" sz="11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Text Box 6"/>
            <p:cNvSpPr/>
            <p:nvPr/>
          </p:nvSpPr>
          <p:spPr>
            <a:xfrm>
              <a:off x="7589880" y="3318840"/>
              <a:ext cx="1782720" cy="505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000" spc="-1" strike="noStrike">
                  <a:solidFill>
                    <a:srgbClr val="000000"/>
                  </a:solidFill>
                  <a:latin typeface="Bookman Old Style"/>
                </a:rPr>
                <a:t>KASUBAG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000" spc="-1" strike="noStrike">
                  <a:solidFill>
                    <a:srgbClr val="000000"/>
                  </a:solidFill>
                  <a:latin typeface="Bookman Old Style"/>
                </a:rPr>
                <a:t>TATA USAHA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Line 67"/>
            <p:cNvSpPr/>
            <p:nvPr/>
          </p:nvSpPr>
          <p:spPr>
            <a:xfrm>
              <a:off x="3310200" y="3084120"/>
              <a:ext cx="5171040" cy="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37440" bIns="-374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Line 69"/>
            <p:cNvSpPr/>
            <p:nvPr/>
          </p:nvSpPr>
          <p:spPr>
            <a:xfrm>
              <a:off x="8481240" y="308412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Line 90"/>
            <p:cNvSpPr/>
            <p:nvPr/>
          </p:nvSpPr>
          <p:spPr>
            <a:xfrm>
              <a:off x="5895720" y="2699640"/>
              <a:ext cx="0" cy="2290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Line 69"/>
            <p:cNvSpPr/>
            <p:nvPr/>
          </p:nvSpPr>
          <p:spPr>
            <a:xfrm>
              <a:off x="3310200" y="308412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Text Box 6"/>
            <p:cNvSpPr/>
            <p:nvPr/>
          </p:nvSpPr>
          <p:spPr>
            <a:xfrm>
              <a:off x="6342120" y="5226120"/>
              <a:ext cx="2852640" cy="505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SEKSI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PENGUJIAN MUTU BARANG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Line 67"/>
            <p:cNvSpPr/>
            <p:nvPr/>
          </p:nvSpPr>
          <p:spPr>
            <a:xfrm flipV="1">
              <a:off x="4090320" y="4989960"/>
              <a:ext cx="36774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3920" bIns="-43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Line 69"/>
            <p:cNvSpPr/>
            <p:nvPr/>
          </p:nvSpPr>
          <p:spPr>
            <a:xfrm>
              <a:off x="7768080" y="498996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Text Box 6"/>
            <p:cNvSpPr/>
            <p:nvPr/>
          </p:nvSpPr>
          <p:spPr>
            <a:xfrm>
              <a:off x="2597040" y="5227560"/>
              <a:ext cx="2852640" cy="505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SEKSI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KALIBRASI DAN SERTIFIKASI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Line 69"/>
            <p:cNvSpPr/>
            <p:nvPr/>
          </p:nvSpPr>
          <p:spPr>
            <a:xfrm>
              <a:off x="4093560" y="498996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Text Box 17"/>
            <p:cNvSpPr/>
            <p:nvPr/>
          </p:nvSpPr>
          <p:spPr>
            <a:xfrm>
              <a:off x="2433600" y="3313080"/>
              <a:ext cx="1782720" cy="396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KELOMPOK JABATAN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FUNGSIONAL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Line 18"/>
            <p:cNvSpPr/>
            <p:nvPr/>
          </p:nvSpPr>
          <p:spPr>
            <a:xfrm>
              <a:off x="2433600" y="3933720"/>
              <a:ext cx="178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Line 19"/>
            <p:cNvSpPr/>
            <p:nvPr/>
          </p:nvSpPr>
          <p:spPr>
            <a:xfrm>
              <a:off x="2433600" y="4129200"/>
              <a:ext cx="178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Line 20"/>
            <p:cNvSpPr/>
            <p:nvPr/>
          </p:nvSpPr>
          <p:spPr>
            <a:xfrm>
              <a:off x="2433600" y="4303800"/>
              <a:ext cx="178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Line 21"/>
            <p:cNvSpPr/>
            <p:nvPr/>
          </p:nvSpPr>
          <p:spPr>
            <a:xfrm flipV="1">
              <a:off x="2433600" y="3727080"/>
              <a:ext cx="0" cy="58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Line 22"/>
            <p:cNvSpPr/>
            <p:nvPr/>
          </p:nvSpPr>
          <p:spPr>
            <a:xfrm flipV="1">
              <a:off x="2689920" y="3727080"/>
              <a:ext cx="0" cy="58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Line 23"/>
            <p:cNvSpPr/>
            <p:nvPr/>
          </p:nvSpPr>
          <p:spPr>
            <a:xfrm flipV="1">
              <a:off x="4216680" y="3727080"/>
              <a:ext cx="0" cy="58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Line 24"/>
            <p:cNvSpPr/>
            <p:nvPr/>
          </p:nvSpPr>
          <p:spPr>
            <a:xfrm flipV="1">
              <a:off x="3427200" y="3736440"/>
              <a:ext cx="0" cy="567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Line 25"/>
            <p:cNvSpPr/>
            <p:nvPr/>
          </p:nvSpPr>
          <p:spPr>
            <a:xfrm flipV="1">
              <a:off x="3694680" y="3727080"/>
              <a:ext cx="0" cy="58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Line 26"/>
            <p:cNvSpPr/>
            <p:nvPr/>
          </p:nvSpPr>
          <p:spPr>
            <a:xfrm flipV="1">
              <a:off x="3949200" y="3727080"/>
              <a:ext cx="0" cy="58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Line 27"/>
            <p:cNvSpPr/>
            <p:nvPr/>
          </p:nvSpPr>
          <p:spPr>
            <a:xfrm flipV="1">
              <a:off x="3172680" y="3726720"/>
              <a:ext cx="0" cy="567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Line 28"/>
            <p:cNvSpPr/>
            <p:nvPr/>
          </p:nvSpPr>
          <p:spPr>
            <a:xfrm flipV="1">
              <a:off x="2918160" y="3726720"/>
              <a:ext cx="0" cy="567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2" name="Footer Placeholder 2"/>
          <p:cNvSpPr/>
          <p:nvPr/>
        </p:nvSpPr>
        <p:spPr>
          <a:xfrm>
            <a:off x="4060800" y="7081920"/>
            <a:ext cx="37670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- 144 -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Text Box 97"/>
          <p:cNvSpPr/>
          <p:nvPr/>
        </p:nvSpPr>
        <p:spPr>
          <a:xfrm>
            <a:off x="1371600" y="1084320"/>
            <a:ext cx="40561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marL="345960" indent="-34596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Bookman Old Style"/>
              <a:buAutoNum type="alphaUcPeriod" startAt="2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Bookman Old Style"/>
              </a:rPr>
              <a:t>UPTD PENGEMBANGAN TEKNOLOGI DAN STANDARDISASI INDUSTRI 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4" name="Group 1"/>
          <p:cNvGrpSpPr/>
          <p:nvPr/>
        </p:nvGrpSpPr>
        <p:grpSpPr>
          <a:xfrm>
            <a:off x="2560680" y="2367000"/>
            <a:ext cx="6659640" cy="3342600"/>
            <a:chOff x="2560680" y="2367000"/>
            <a:chExt cx="6659640" cy="3342600"/>
          </a:xfrm>
        </p:grpSpPr>
        <p:sp>
          <p:nvSpPr>
            <p:cNvPr id="935" name="Text Box 6"/>
            <p:cNvSpPr/>
            <p:nvPr/>
          </p:nvSpPr>
          <p:spPr>
            <a:xfrm>
              <a:off x="7517160" y="3489120"/>
              <a:ext cx="1703160" cy="505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000" spc="-1" strike="noStrike">
                  <a:solidFill>
                    <a:srgbClr val="000000"/>
                  </a:solidFill>
                  <a:latin typeface="Bookman Old Style"/>
                </a:rPr>
                <a:t>KASUBAG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000" spc="-1" strike="noStrike">
                  <a:solidFill>
                    <a:srgbClr val="000000"/>
                  </a:solidFill>
                  <a:latin typeface="Bookman Old Style"/>
                </a:rPr>
                <a:t>TATA USAHA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Line 67"/>
            <p:cNvSpPr/>
            <p:nvPr/>
          </p:nvSpPr>
          <p:spPr>
            <a:xfrm>
              <a:off x="3429000" y="3247920"/>
              <a:ext cx="4938840" cy="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37440" bIns="-374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Line 69"/>
            <p:cNvSpPr/>
            <p:nvPr/>
          </p:nvSpPr>
          <p:spPr>
            <a:xfrm>
              <a:off x="8367840" y="3255840"/>
              <a:ext cx="0" cy="226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Line 90"/>
            <p:cNvSpPr/>
            <p:nvPr/>
          </p:nvSpPr>
          <p:spPr>
            <a:xfrm>
              <a:off x="5899320" y="2700360"/>
              <a:ext cx="0" cy="2255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Text Box 6"/>
            <p:cNvSpPr/>
            <p:nvPr/>
          </p:nvSpPr>
          <p:spPr>
            <a:xfrm>
              <a:off x="6324840" y="5202360"/>
              <a:ext cx="2725560" cy="505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SEKSI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PENGEMBANGAN JASA TEKNIK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Line 67"/>
            <p:cNvSpPr/>
            <p:nvPr/>
          </p:nvSpPr>
          <p:spPr>
            <a:xfrm flipV="1">
              <a:off x="4173480" y="4969080"/>
              <a:ext cx="3513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3920" bIns="-43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Line 69"/>
            <p:cNvSpPr/>
            <p:nvPr/>
          </p:nvSpPr>
          <p:spPr>
            <a:xfrm>
              <a:off x="7686720" y="4969080"/>
              <a:ext cx="0" cy="226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Text Box 6"/>
            <p:cNvSpPr/>
            <p:nvPr/>
          </p:nvSpPr>
          <p:spPr>
            <a:xfrm>
              <a:off x="2746080" y="5203800"/>
              <a:ext cx="2725560" cy="505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SEKSI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STANDARDISASI DAN SERTIFIKASI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Line 69"/>
            <p:cNvSpPr/>
            <p:nvPr/>
          </p:nvSpPr>
          <p:spPr>
            <a:xfrm>
              <a:off x="4194000" y="4969080"/>
              <a:ext cx="0" cy="226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Line 69"/>
            <p:cNvSpPr/>
            <p:nvPr/>
          </p:nvSpPr>
          <p:spPr>
            <a:xfrm>
              <a:off x="3436920" y="324792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Text Box 17"/>
            <p:cNvSpPr/>
            <p:nvPr/>
          </p:nvSpPr>
          <p:spPr>
            <a:xfrm>
              <a:off x="2560680" y="3476520"/>
              <a:ext cx="1782720" cy="396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Bookman Old Style"/>
                </a:rPr>
                <a:t>KELOMPOK JABATAN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Bookman Old Style"/>
                </a:rPr>
                <a:t>FUNGSIONAL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Line 18"/>
            <p:cNvSpPr/>
            <p:nvPr/>
          </p:nvSpPr>
          <p:spPr>
            <a:xfrm>
              <a:off x="2560680" y="4097520"/>
              <a:ext cx="178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Line 19"/>
            <p:cNvSpPr/>
            <p:nvPr/>
          </p:nvSpPr>
          <p:spPr>
            <a:xfrm>
              <a:off x="2560680" y="4292640"/>
              <a:ext cx="178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Line 20"/>
            <p:cNvSpPr/>
            <p:nvPr/>
          </p:nvSpPr>
          <p:spPr>
            <a:xfrm>
              <a:off x="2560680" y="4467240"/>
              <a:ext cx="178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Line 21"/>
            <p:cNvSpPr/>
            <p:nvPr/>
          </p:nvSpPr>
          <p:spPr>
            <a:xfrm flipV="1">
              <a:off x="2560680" y="3890520"/>
              <a:ext cx="0" cy="58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Line 22"/>
            <p:cNvSpPr/>
            <p:nvPr/>
          </p:nvSpPr>
          <p:spPr>
            <a:xfrm flipV="1">
              <a:off x="2816280" y="3890520"/>
              <a:ext cx="0" cy="58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Line 23"/>
            <p:cNvSpPr/>
            <p:nvPr/>
          </p:nvSpPr>
          <p:spPr>
            <a:xfrm flipV="1">
              <a:off x="4343400" y="3890520"/>
              <a:ext cx="0" cy="58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Line 24"/>
            <p:cNvSpPr/>
            <p:nvPr/>
          </p:nvSpPr>
          <p:spPr>
            <a:xfrm flipV="1">
              <a:off x="3554280" y="3900600"/>
              <a:ext cx="0" cy="566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Line 25"/>
            <p:cNvSpPr/>
            <p:nvPr/>
          </p:nvSpPr>
          <p:spPr>
            <a:xfrm flipV="1">
              <a:off x="3821040" y="3890520"/>
              <a:ext cx="0" cy="58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Line 26"/>
            <p:cNvSpPr/>
            <p:nvPr/>
          </p:nvSpPr>
          <p:spPr>
            <a:xfrm flipV="1">
              <a:off x="4076640" y="3890520"/>
              <a:ext cx="0" cy="58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Line 27"/>
            <p:cNvSpPr/>
            <p:nvPr/>
          </p:nvSpPr>
          <p:spPr>
            <a:xfrm flipV="1">
              <a:off x="3298680" y="3890880"/>
              <a:ext cx="0" cy="566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Line 28"/>
            <p:cNvSpPr/>
            <p:nvPr/>
          </p:nvSpPr>
          <p:spPr>
            <a:xfrm flipV="1">
              <a:off x="3044880" y="3890880"/>
              <a:ext cx="0" cy="566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21"/>
            <p:cNvSpPr/>
            <p:nvPr/>
          </p:nvSpPr>
          <p:spPr>
            <a:xfrm>
              <a:off x="5181480" y="2367000"/>
              <a:ext cx="1403280" cy="3445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560" rIns="115560" tIns="57960" bIns="5796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Bookman Old Style"/>
                </a:rPr>
                <a:t>KEPALA</a:t>
              </a:r>
              <a:endParaRPr b="1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8" name="Footer Placeholder 2"/>
          <p:cNvSpPr/>
          <p:nvPr/>
        </p:nvSpPr>
        <p:spPr>
          <a:xfrm>
            <a:off x="4060800" y="7081920"/>
            <a:ext cx="37670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- 145 -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Text Box 97"/>
          <p:cNvSpPr/>
          <p:nvPr/>
        </p:nvSpPr>
        <p:spPr>
          <a:xfrm>
            <a:off x="1371600" y="1160640"/>
            <a:ext cx="40561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marL="345960" indent="-345960">
              <a:lnSpc>
                <a:spcPct val="100000"/>
              </a:lnSpc>
              <a:buClr>
                <a:srgbClr val="000000"/>
              </a:buClr>
              <a:buFont typeface="Bookman Old Style"/>
              <a:buAutoNum type="alphaUcPeriod" startAt="2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Bookman Old Style"/>
              </a:rPr>
              <a:t>UPTD SERTIFIKASI MUTU DAN KEAMANAN PANGAN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0" name="Group 1"/>
          <p:cNvGrpSpPr/>
          <p:nvPr/>
        </p:nvGrpSpPr>
        <p:grpSpPr>
          <a:xfrm>
            <a:off x="2560680" y="2286000"/>
            <a:ext cx="6659640" cy="3552120"/>
            <a:chOff x="2560680" y="2286000"/>
            <a:chExt cx="6659640" cy="3552120"/>
          </a:xfrm>
        </p:grpSpPr>
        <p:sp>
          <p:nvSpPr>
            <p:cNvPr id="961" name="Text Box 6"/>
            <p:cNvSpPr/>
            <p:nvPr/>
          </p:nvSpPr>
          <p:spPr>
            <a:xfrm>
              <a:off x="7517160" y="3414600"/>
              <a:ext cx="1703160" cy="505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000" spc="-1" strike="noStrike">
                  <a:solidFill>
                    <a:srgbClr val="000000"/>
                  </a:solidFill>
                  <a:latin typeface="Bookman Old Style"/>
                </a:rPr>
                <a:t>KASUBAG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000" spc="-1" strike="noStrike">
                  <a:solidFill>
                    <a:srgbClr val="000000"/>
                  </a:solidFill>
                  <a:latin typeface="Bookman Old Style"/>
                </a:rPr>
                <a:t>TATA USAHA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Line 67"/>
            <p:cNvSpPr/>
            <p:nvPr/>
          </p:nvSpPr>
          <p:spPr>
            <a:xfrm>
              <a:off x="3429000" y="3173400"/>
              <a:ext cx="4938840" cy="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37440" bIns="-374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Line 69"/>
            <p:cNvSpPr/>
            <p:nvPr/>
          </p:nvSpPr>
          <p:spPr>
            <a:xfrm>
              <a:off x="8367840" y="3181320"/>
              <a:ext cx="0" cy="226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Line 90"/>
            <p:cNvSpPr/>
            <p:nvPr/>
          </p:nvSpPr>
          <p:spPr>
            <a:xfrm>
              <a:off x="5899320" y="2625480"/>
              <a:ext cx="0" cy="2255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Text Box 6"/>
            <p:cNvSpPr/>
            <p:nvPr/>
          </p:nvSpPr>
          <p:spPr>
            <a:xfrm>
              <a:off x="6324840" y="5127840"/>
              <a:ext cx="2725560" cy="505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SEKSI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PELAYANAN TEKNIS KEAMANAN PANGAN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Line 67"/>
            <p:cNvSpPr/>
            <p:nvPr/>
          </p:nvSpPr>
          <p:spPr>
            <a:xfrm flipV="1">
              <a:off x="4173480" y="4894200"/>
              <a:ext cx="3513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3920" bIns="-43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Line 69"/>
            <p:cNvSpPr/>
            <p:nvPr/>
          </p:nvSpPr>
          <p:spPr>
            <a:xfrm>
              <a:off x="7686720" y="4894200"/>
              <a:ext cx="0" cy="226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Text Box 6"/>
            <p:cNvSpPr/>
            <p:nvPr/>
          </p:nvSpPr>
          <p:spPr>
            <a:xfrm>
              <a:off x="2746080" y="5129280"/>
              <a:ext cx="2725560" cy="7088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SEKSI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SERTIFIKASI DAN PENGUJIAN MUTU PANGAN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Line 69"/>
            <p:cNvSpPr/>
            <p:nvPr/>
          </p:nvSpPr>
          <p:spPr>
            <a:xfrm>
              <a:off x="4194000" y="4894200"/>
              <a:ext cx="0" cy="226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Line 69"/>
            <p:cNvSpPr/>
            <p:nvPr/>
          </p:nvSpPr>
          <p:spPr>
            <a:xfrm>
              <a:off x="3436920" y="317340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Text Box 17"/>
            <p:cNvSpPr/>
            <p:nvPr/>
          </p:nvSpPr>
          <p:spPr>
            <a:xfrm>
              <a:off x="2560680" y="3402000"/>
              <a:ext cx="1782720" cy="396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KELOMPOK JABATAN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FUNGSIONAL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Line 18"/>
            <p:cNvSpPr/>
            <p:nvPr/>
          </p:nvSpPr>
          <p:spPr>
            <a:xfrm>
              <a:off x="2560680" y="4022640"/>
              <a:ext cx="178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Line 19"/>
            <p:cNvSpPr/>
            <p:nvPr/>
          </p:nvSpPr>
          <p:spPr>
            <a:xfrm>
              <a:off x="2560680" y="4218120"/>
              <a:ext cx="178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Line 20"/>
            <p:cNvSpPr/>
            <p:nvPr/>
          </p:nvSpPr>
          <p:spPr>
            <a:xfrm>
              <a:off x="2560680" y="4392720"/>
              <a:ext cx="178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Line 21"/>
            <p:cNvSpPr/>
            <p:nvPr/>
          </p:nvSpPr>
          <p:spPr>
            <a:xfrm flipV="1">
              <a:off x="2560680" y="3816000"/>
              <a:ext cx="0" cy="58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Line 22"/>
            <p:cNvSpPr/>
            <p:nvPr/>
          </p:nvSpPr>
          <p:spPr>
            <a:xfrm flipV="1">
              <a:off x="2816280" y="3816000"/>
              <a:ext cx="0" cy="58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Line 23"/>
            <p:cNvSpPr/>
            <p:nvPr/>
          </p:nvSpPr>
          <p:spPr>
            <a:xfrm flipV="1">
              <a:off x="4343400" y="3816000"/>
              <a:ext cx="0" cy="58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Line 24"/>
            <p:cNvSpPr/>
            <p:nvPr/>
          </p:nvSpPr>
          <p:spPr>
            <a:xfrm flipV="1">
              <a:off x="3554280" y="3825720"/>
              <a:ext cx="0" cy="566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Line 25"/>
            <p:cNvSpPr/>
            <p:nvPr/>
          </p:nvSpPr>
          <p:spPr>
            <a:xfrm flipV="1">
              <a:off x="3821040" y="3816000"/>
              <a:ext cx="0" cy="58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Line 26"/>
            <p:cNvSpPr/>
            <p:nvPr/>
          </p:nvSpPr>
          <p:spPr>
            <a:xfrm flipV="1">
              <a:off x="4076640" y="3816000"/>
              <a:ext cx="0" cy="58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Line 27"/>
            <p:cNvSpPr/>
            <p:nvPr/>
          </p:nvSpPr>
          <p:spPr>
            <a:xfrm flipV="1">
              <a:off x="3298680" y="3816360"/>
              <a:ext cx="0" cy="566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Line 28"/>
            <p:cNvSpPr/>
            <p:nvPr/>
          </p:nvSpPr>
          <p:spPr>
            <a:xfrm flipV="1">
              <a:off x="3044880" y="3816360"/>
              <a:ext cx="0" cy="566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Text Box 21"/>
            <p:cNvSpPr/>
            <p:nvPr/>
          </p:nvSpPr>
          <p:spPr>
            <a:xfrm>
              <a:off x="5191200" y="2286000"/>
              <a:ext cx="1403280" cy="3445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560" rIns="115560" tIns="57960" bIns="5796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Bookman Old Style"/>
                </a:rPr>
                <a:t>KEPALA</a:t>
              </a:r>
              <a:endParaRPr b="1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4" name="Footer Placeholder 2"/>
          <p:cNvSpPr/>
          <p:nvPr/>
        </p:nvSpPr>
        <p:spPr>
          <a:xfrm>
            <a:off x="4060800" y="7081920"/>
            <a:ext cx="37670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- 146 -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Text Box 30"/>
          <p:cNvSpPr/>
          <p:nvPr/>
        </p:nvSpPr>
        <p:spPr>
          <a:xfrm>
            <a:off x="7862760" y="5000760"/>
            <a:ext cx="3170520" cy="11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GUBERNUR BANTEN,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ttd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WAHIDIN HALI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6" name="Group 44"/>
          <p:cNvGrpSpPr/>
          <p:nvPr/>
        </p:nvGrpSpPr>
        <p:grpSpPr>
          <a:xfrm>
            <a:off x="2209680" y="952560"/>
            <a:ext cx="7709040" cy="3989160"/>
            <a:chOff x="2209680" y="952560"/>
            <a:chExt cx="7709040" cy="3989160"/>
          </a:xfrm>
        </p:grpSpPr>
        <p:sp>
          <p:nvSpPr>
            <p:cNvPr id="987" name="Text Box 6"/>
            <p:cNvSpPr/>
            <p:nvPr/>
          </p:nvSpPr>
          <p:spPr>
            <a:xfrm>
              <a:off x="7938360" y="1963080"/>
              <a:ext cx="1980360" cy="546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74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000" spc="-1" strike="noStrike">
                  <a:solidFill>
                    <a:srgbClr val="000000"/>
                  </a:solidFill>
                  <a:latin typeface="Bookman Old Style"/>
                </a:rPr>
                <a:t>KASUBAG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74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000" spc="-1" strike="noStrike">
                  <a:solidFill>
                    <a:srgbClr val="000000"/>
                  </a:solidFill>
                  <a:latin typeface="Bookman Old Style"/>
                </a:rPr>
                <a:t>TATA USAHA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Line 67"/>
            <p:cNvSpPr/>
            <p:nvPr/>
          </p:nvSpPr>
          <p:spPr>
            <a:xfrm>
              <a:off x="3183480" y="1702080"/>
              <a:ext cx="5744880" cy="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Line 69"/>
            <p:cNvSpPr/>
            <p:nvPr/>
          </p:nvSpPr>
          <p:spPr>
            <a:xfrm>
              <a:off x="8928360" y="1702080"/>
              <a:ext cx="0" cy="254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Line 90"/>
            <p:cNvSpPr/>
            <p:nvPr/>
          </p:nvSpPr>
          <p:spPr>
            <a:xfrm flipH="1">
              <a:off x="6039000" y="1296000"/>
              <a:ext cx="16200" cy="3040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Line 69"/>
            <p:cNvSpPr/>
            <p:nvPr/>
          </p:nvSpPr>
          <p:spPr>
            <a:xfrm>
              <a:off x="3183480" y="1702080"/>
              <a:ext cx="0" cy="254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Text Box 6"/>
            <p:cNvSpPr/>
            <p:nvPr/>
          </p:nvSpPr>
          <p:spPr>
            <a:xfrm>
              <a:off x="6552000" y="3480840"/>
              <a:ext cx="3169440" cy="546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74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SEKSI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74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PENERIMAAN DAN PENAGIHAN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Line 67"/>
            <p:cNvSpPr/>
            <p:nvPr/>
          </p:nvSpPr>
          <p:spPr>
            <a:xfrm flipV="1">
              <a:off x="4050360" y="3214080"/>
              <a:ext cx="40856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Line 69"/>
            <p:cNvSpPr/>
            <p:nvPr/>
          </p:nvSpPr>
          <p:spPr>
            <a:xfrm>
              <a:off x="8136000" y="3210120"/>
              <a:ext cx="0" cy="254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Text Box 6"/>
            <p:cNvSpPr/>
            <p:nvPr/>
          </p:nvSpPr>
          <p:spPr>
            <a:xfrm>
              <a:off x="2391120" y="3474360"/>
              <a:ext cx="3169440" cy="546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74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SEKSI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74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PENDATAAN DAN PENETAPAN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Line 69"/>
            <p:cNvSpPr/>
            <p:nvPr/>
          </p:nvSpPr>
          <p:spPr>
            <a:xfrm>
              <a:off x="4049640" y="3206160"/>
              <a:ext cx="0" cy="254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Text Box 17"/>
            <p:cNvSpPr/>
            <p:nvPr/>
          </p:nvSpPr>
          <p:spPr>
            <a:xfrm>
              <a:off x="2209680" y="1934640"/>
              <a:ext cx="1980360" cy="396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KELOMPOK JABATAN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FUNGSIONAL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8"/>
            <p:cNvSpPr/>
            <p:nvPr/>
          </p:nvSpPr>
          <p:spPr>
            <a:xfrm>
              <a:off x="2209680" y="2575800"/>
              <a:ext cx="198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Line 19"/>
            <p:cNvSpPr/>
            <p:nvPr/>
          </p:nvSpPr>
          <p:spPr>
            <a:xfrm>
              <a:off x="2209680" y="2792880"/>
              <a:ext cx="198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Line 20"/>
            <p:cNvSpPr/>
            <p:nvPr/>
          </p:nvSpPr>
          <p:spPr>
            <a:xfrm>
              <a:off x="2209680" y="2986920"/>
              <a:ext cx="198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Line 21"/>
            <p:cNvSpPr/>
            <p:nvPr/>
          </p:nvSpPr>
          <p:spPr>
            <a:xfrm flipV="1">
              <a:off x="2209680" y="2346120"/>
              <a:ext cx="0" cy="653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Line 22"/>
            <p:cNvSpPr/>
            <p:nvPr/>
          </p:nvSpPr>
          <p:spPr>
            <a:xfrm flipV="1">
              <a:off x="2494440" y="2346120"/>
              <a:ext cx="0" cy="653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Line 23"/>
            <p:cNvSpPr/>
            <p:nvPr/>
          </p:nvSpPr>
          <p:spPr>
            <a:xfrm flipV="1">
              <a:off x="4190400" y="2346120"/>
              <a:ext cx="0" cy="653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Line 24"/>
            <p:cNvSpPr/>
            <p:nvPr/>
          </p:nvSpPr>
          <p:spPr>
            <a:xfrm flipV="1">
              <a:off x="3313440" y="2356920"/>
              <a:ext cx="0" cy="630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Line 25"/>
            <p:cNvSpPr/>
            <p:nvPr/>
          </p:nvSpPr>
          <p:spPr>
            <a:xfrm flipV="1">
              <a:off x="3610800" y="2346120"/>
              <a:ext cx="0" cy="653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Line 26"/>
            <p:cNvSpPr/>
            <p:nvPr/>
          </p:nvSpPr>
          <p:spPr>
            <a:xfrm flipV="1">
              <a:off x="3893400" y="2346120"/>
              <a:ext cx="0" cy="653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Line 27"/>
            <p:cNvSpPr/>
            <p:nvPr/>
          </p:nvSpPr>
          <p:spPr>
            <a:xfrm flipV="1">
              <a:off x="3030840" y="2346120"/>
              <a:ext cx="0" cy="630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Line 28"/>
            <p:cNvSpPr/>
            <p:nvPr/>
          </p:nvSpPr>
          <p:spPr>
            <a:xfrm flipV="1">
              <a:off x="2748240" y="2346120"/>
              <a:ext cx="0" cy="630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9" name="Group 28"/>
            <p:cNvGrpSpPr/>
            <p:nvPr/>
          </p:nvGrpSpPr>
          <p:grpSpPr>
            <a:xfrm>
              <a:off x="5105160" y="4337280"/>
              <a:ext cx="2227320" cy="604440"/>
              <a:chOff x="5105160" y="4337280"/>
              <a:chExt cx="2227320" cy="604440"/>
            </a:xfrm>
          </p:grpSpPr>
          <p:sp>
            <p:nvSpPr>
              <p:cNvPr id="1010" name="Text Box 39"/>
              <p:cNvSpPr/>
              <p:nvPr/>
            </p:nvSpPr>
            <p:spPr>
              <a:xfrm>
                <a:off x="5105160" y="4337280"/>
                <a:ext cx="1744200" cy="3963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Bookman Old Style"/>
                  </a:rPr>
                  <a:t>INSTALASI 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SUKADIRI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Line 40"/>
              <p:cNvSpPr/>
              <p:nvPr/>
            </p:nvSpPr>
            <p:spPr>
              <a:xfrm>
                <a:off x="6853680" y="4443480"/>
                <a:ext cx="158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Line 41"/>
              <p:cNvSpPr/>
              <p:nvPr/>
            </p:nvSpPr>
            <p:spPr>
              <a:xfrm>
                <a:off x="7022160" y="4455360"/>
                <a:ext cx="0" cy="326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Line 42"/>
              <p:cNvSpPr/>
              <p:nvPr/>
            </p:nvSpPr>
            <p:spPr>
              <a:xfrm>
                <a:off x="5274720" y="4715640"/>
                <a:ext cx="0" cy="8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Line 43"/>
              <p:cNvSpPr/>
              <p:nvPr/>
            </p:nvSpPr>
            <p:spPr>
              <a:xfrm>
                <a:off x="5281200" y="4790160"/>
                <a:ext cx="174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Line 44"/>
              <p:cNvSpPr/>
              <p:nvPr/>
            </p:nvSpPr>
            <p:spPr>
              <a:xfrm>
                <a:off x="7008840" y="4514760"/>
                <a:ext cx="158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Line 45"/>
              <p:cNvSpPr/>
              <p:nvPr/>
            </p:nvSpPr>
            <p:spPr>
              <a:xfrm>
                <a:off x="7167600" y="4525200"/>
                <a:ext cx="0" cy="326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Line 46"/>
              <p:cNvSpPr/>
              <p:nvPr/>
            </p:nvSpPr>
            <p:spPr>
              <a:xfrm>
                <a:off x="5419800" y="4780080"/>
                <a:ext cx="0" cy="8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Line 47"/>
              <p:cNvSpPr/>
              <p:nvPr/>
            </p:nvSpPr>
            <p:spPr>
              <a:xfrm>
                <a:off x="5423040" y="4861800"/>
                <a:ext cx="174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Line 48"/>
              <p:cNvSpPr/>
              <p:nvPr/>
            </p:nvSpPr>
            <p:spPr>
              <a:xfrm>
                <a:off x="7174080" y="4615560"/>
                <a:ext cx="158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Line 49"/>
              <p:cNvSpPr/>
              <p:nvPr/>
            </p:nvSpPr>
            <p:spPr>
              <a:xfrm>
                <a:off x="7332480" y="4615560"/>
                <a:ext cx="0" cy="326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Line 50"/>
              <p:cNvSpPr/>
              <p:nvPr/>
            </p:nvSpPr>
            <p:spPr>
              <a:xfrm>
                <a:off x="5585040" y="4860360"/>
                <a:ext cx="0" cy="8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Line 51"/>
              <p:cNvSpPr/>
              <p:nvPr/>
            </p:nvSpPr>
            <p:spPr>
              <a:xfrm>
                <a:off x="5588280" y="4941720"/>
                <a:ext cx="174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3" name="Text Box 21"/>
            <p:cNvSpPr/>
            <p:nvPr/>
          </p:nvSpPr>
          <p:spPr>
            <a:xfrm>
              <a:off x="5343480" y="952560"/>
              <a:ext cx="1403280" cy="3445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560" rIns="115560" tIns="57960" bIns="5796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Bookman Old Style"/>
                </a:rPr>
                <a:t>KEPALA</a:t>
              </a:r>
              <a:endParaRPr b="1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4" name="Footer Placeholder 2"/>
          <p:cNvSpPr/>
          <p:nvPr/>
        </p:nvSpPr>
        <p:spPr>
          <a:xfrm>
            <a:off x="4060800" y="7081920"/>
            <a:ext cx="37670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- 147 -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97"/>
          <p:cNvSpPr/>
          <p:nvPr/>
        </p:nvSpPr>
        <p:spPr>
          <a:xfrm>
            <a:off x="1244520" y="469800"/>
            <a:ext cx="39369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marL="345960" indent="-34596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Bookman Old Style"/>
              <a:buAutoNum type="alphaUcPeriod" startAt="2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Bookman Old Style"/>
              </a:rPr>
              <a:t>UPTD PENGELOLAAN PENDAPATAN DAERAH SERANG 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Rectangle 1"/>
          <p:cNvSpPr/>
          <p:nvPr/>
        </p:nvSpPr>
        <p:spPr>
          <a:xfrm>
            <a:off x="1969920" y="5473800"/>
            <a:ext cx="61804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00"/>
              </a:lnSpc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Salinan sesuai dengan asliny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500"/>
              </a:lnSpc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KEPALA BIRO HUKUM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500"/>
              </a:lnSpc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500"/>
              </a:lnSpc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 </a:t>
            </a:r>
            <a:r>
              <a:rPr b="0" lang="it-IT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tt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500"/>
              </a:lnSpc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500"/>
              </a:lnSpc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Bookman Old Style"/>
                <a:ea typeface="Times New Roman"/>
              </a:rPr>
              <a:t>AGUS MINTONO, SH. M.S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500"/>
              </a:lnSpc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Pembina Tk. 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500"/>
              </a:lnSpc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NIP. 19680805 199803 1 01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30"/>
          <p:cNvSpPr/>
          <p:nvPr/>
        </p:nvSpPr>
        <p:spPr>
          <a:xfrm>
            <a:off x="7924680" y="5638680"/>
            <a:ext cx="3170520" cy="9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GUBERNUR BANTEN,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ttd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WAHIDIN HALI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31"/>
          <p:cNvSpPr/>
          <p:nvPr/>
        </p:nvSpPr>
        <p:spPr>
          <a:xfrm>
            <a:off x="1338120" y="642960"/>
            <a:ext cx="29718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Bookman Old Style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man Old Style"/>
              </a:rPr>
              <a:t>CABANG DINAS KELAUTAN DAN PERIKANAN PROVINSI BANTE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4"/>
          <p:cNvSpPr/>
          <p:nvPr/>
        </p:nvSpPr>
        <p:spPr>
          <a:xfrm>
            <a:off x="5943600" y="2185920"/>
            <a:ext cx="4680" cy="2046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7924680" y="2209680"/>
            <a:ext cx="1981440" cy="63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ts val="2024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SUB BAGIA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024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TATA USAH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2003400" y="2708280"/>
            <a:ext cx="1981080" cy="420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man Old Style"/>
              </a:rPr>
              <a:t>KELOMPOK JABATA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man Old Style"/>
              </a:rPr>
              <a:t>FUNGSIONAL PENGAWA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7"/>
          <p:cNvSpPr/>
          <p:nvPr/>
        </p:nvSpPr>
        <p:spPr>
          <a:xfrm>
            <a:off x="2003400" y="337644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-57600" bIns="-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8"/>
          <p:cNvSpPr/>
          <p:nvPr/>
        </p:nvSpPr>
        <p:spPr>
          <a:xfrm>
            <a:off x="2003400" y="35989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-57600" bIns="-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9"/>
          <p:cNvSpPr/>
          <p:nvPr/>
        </p:nvSpPr>
        <p:spPr>
          <a:xfrm>
            <a:off x="2003400" y="3807000"/>
            <a:ext cx="1981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-57600" bIns="-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10"/>
          <p:cNvSpPr/>
          <p:nvPr/>
        </p:nvSpPr>
        <p:spPr>
          <a:xfrm flipV="1">
            <a:off x="2003400" y="3143160"/>
            <a:ext cx="0" cy="66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11"/>
          <p:cNvSpPr/>
          <p:nvPr/>
        </p:nvSpPr>
        <p:spPr>
          <a:xfrm flipV="1">
            <a:off x="2287440" y="3143160"/>
            <a:ext cx="0" cy="66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12"/>
          <p:cNvSpPr/>
          <p:nvPr/>
        </p:nvSpPr>
        <p:spPr>
          <a:xfrm flipV="1">
            <a:off x="3981600" y="3143160"/>
            <a:ext cx="0" cy="66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13"/>
          <p:cNvSpPr/>
          <p:nvPr/>
        </p:nvSpPr>
        <p:spPr>
          <a:xfrm flipV="1">
            <a:off x="3106800" y="3155760"/>
            <a:ext cx="0" cy="64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14"/>
          <p:cNvSpPr/>
          <p:nvPr/>
        </p:nvSpPr>
        <p:spPr>
          <a:xfrm flipV="1">
            <a:off x="3405240" y="3143160"/>
            <a:ext cx="0" cy="66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5"/>
          <p:cNvSpPr/>
          <p:nvPr/>
        </p:nvSpPr>
        <p:spPr>
          <a:xfrm flipV="1">
            <a:off x="3687840" y="3143160"/>
            <a:ext cx="0" cy="66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6"/>
          <p:cNvSpPr/>
          <p:nvPr/>
        </p:nvSpPr>
        <p:spPr>
          <a:xfrm flipV="1">
            <a:off x="2824200" y="314316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17"/>
          <p:cNvSpPr/>
          <p:nvPr/>
        </p:nvSpPr>
        <p:spPr>
          <a:xfrm flipV="1">
            <a:off x="2541600" y="314316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18"/>
          <p:cNvSpPr/>
          <p:nvPr/>
        </p:nvSpPr>
        <p:spPr>
          <a:xfrm>
            <a:off x="2994120" y="2460600"/>
            <a:ext cx="4940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-57600" bIns="-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19"/>
          <p:cNvSpPr/>
          <p:nvPr/>
        </p:nvSpPr>
        <p:spPr>
          <a:xfrm>
            <a:off x="2984400" y="2460600"/>
            <a:ext cx="0" cy="23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21"/>
          <p:cNvSpPr/>
          <p:nvPr/>
        </p:nvSpPr>
        <p:spPr>
          <a:xfrm>
            <a:off x="5237280" y="1828800"/>
            <a:ext cx="1403280" cy="390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KEPAL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20"/>
          <p:cNvSpPr/>
          <p:nvPr/>
        </p:nvSpPr>
        <p:spPr>
          <a:xfrm>
            <a:off x="3822840" y="4232160"/>
            <a:ext cx="4228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-57600" bIns="-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22"/>
          <p:cNvSpPr/>
          <p:nvPr/>
        </p:nvSpPr>
        <p:spPr>
          <a:xfrm>
            <a:off x="2646360" y="4395960"/>
            <a:ext cx="2382840" cy="663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SEKSI  PENGELOLAAN DAN PENGENDALIAN LAUT, PASIR DAN PULAU-PUAU KECI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23"/>
          <p:cNvSpPr/>
          <p:nvPr/>
        </p:nvSpPr>
        <p:spPr>
          <a:xfrm>
            <a:off x="3822840" y="4232160"/>
            <a:ext cx="0" cy="16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24"/>
          <p:cNvSpPr/>
          <p:nvPr/>
        </p:nvSpPr>
        <p:spPr>
          <a:xfrm>
            <a:off x="8061480" y="4232160"/>
            <a:ext cx="0" cy="16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6858000" y="4397400"/>
            <a:ext cx="2438280" cy="846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SEKSI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PELAYANAN USAHA JASA KELAUTA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Footer Placeholder 2"/>
          <p:cNvSpPr/>
          <p:nvPr/>
        </p:nvSpPr>
        <p:spPr>
          <a:xfrm>
            <a:off x="4060800" y="7081920"/>
            <a:ext cx="37670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- 118 -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"/>
          <p:cNvSpPr/>
          <p:nvPr/>
        </p:nvSpPr>
        <p:spPr>
          <a:xfrm>
            <a:off x="1600200" y="5724360"/>
            <a:ext cx="59436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00"/>
              </a:lnSpc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Salinan sesuai dengan asliny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500"/>
              </a:lnSpc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KEPALA BIRO HUKUM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500"/>
              </a:lnSpc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500"/>
              </a:lnSpc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 </a:t>
            </a:r>
            <a:r>
              <a:rPr b="0" lang="it-IT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tt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500"/>
              </a:lnSpc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  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500"/>
              </a:lnSpc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Bookman Old Style"/>
                <a:ea typeface="Times New Roman"/>
              </a:rPr>
              <a:t>AGUS MINTONO, SH. M.S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500"/>
              </a:lnSpc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Pembina Tingkat 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500"/>
              </a:lnSpc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NIP. 19680805 199803 1 01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Line 4"/>
          <p:cNvSpPr/>
          <p:nvPr/>
        </p:nvSpPr>
        <p:spPr>
          <a:xfrm flipH="1">
            <a:off x="5937120" y="2614680"/>
            <a:ext cx="6480" cy="207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6931080" y="2975040"/>
            <a:ext cx="1981080" cy="63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ts val="2024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SUB BAGIA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024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TATA USAHA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4946760" y="4692600"/>
            <a:ext cx="1981080" cy="420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KELOMPOK JABATA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FUNGSIONAL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7"/>
          <p:cNvSpPr/>
          <p:nvPr/>
        </p:nvSpPr>
        <p:spPr>
          <a:xfrm>
            <a:off x="4946760" y="53611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-57600" bIns="-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8"/>
          <p:cNvSpPr/>
          <p:nvPr/>
        </p:nvSpPr>
        <p:spPr>
          <a:xfrm>
            <a:off x="4946760" y="558324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-57600" bIns="-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9"/>
          <p:cNvSpPr/>
          <p:nvPr/>
        </p:nvSpPr>
        <p:spPr>
          <a:xfrm>
            <a:off x="4946760" y="5791320"/>
            <a:ext cx="1981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-57600" bIns="-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10"/>
          <p:cNvSpPr/>
          <p:nvPr/>
        </p:nvSpPr>
        <p:spPr>
          <a:xfrm flipV="1">
            <a:off x="4946760" y="5127480"/>
            <a:ext cx="0" cy="66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11"/>
          <p:cNvSpPr/>
          <p:nvPr/>
        </p:nvSpPr>
        <p:spPr>
          <a:xfrm flipV="1">
            <a:off x="5230800" y="5127480"/>
            <a:ext cx="0" cy="66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12"/>
          <p:cNvSpPr/>
          <p:nvPr/>
        </p:nvSpPr>
        <p:spPr>
          <a:xfrm flipV="1">
            <a:off x="6927840" y="5127480"/>
            <a:ext cx="0" cy="66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13"/>
          <p:cNvSpPr/>
          <p:nvPr/>
        </p:nvSpPr>
        <p:spPr>
          <a:xfrm flipV="1">
            <a:off x="6049800" y="5140080"/>
            <a:ext cx="0" cy="64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14"/>
          <p:cNvSpPr/>
          <p:nvPr/>
        </p:nvSpPr>
        <p:spPr>
          <a:xfrm flipV="1">
            <a:off x="6348240" y="5127480"/>
            <a:ext cx="0" cy="66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15"/>
          <p:cNvSpPr/>
          <p:nvPr/>
        </p:nvSpPr>
        <p:spPr>
          <a:xfrm flipV="1">
            <a:off x="6630840" y="5127480"/>
            <a:ext cx="0" cy="66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16"/>
          <p:cNvSpPr/>
          <p:nvPr/>
        </p:nvSpPr>
        <p:spPr>
          <a:xfrm flipV="1">
            <a:off x="5767560" y="512748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17"/>
          <p:cNvSpPr/>
          <p:nvPr/>
        </p:nvSpPr>
        <p:spPr>
          <a:xfrm flipV="1">
            <a:off x="5484960" y="512748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8"/>
          <p:cNvSpPr/>
          <p:nvPr/>
        </p:nvSpPr>
        <p:spPr>
          <a:xfrm>
            <a:off x="5937120" y="327672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-57600" bIns="-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21"/>
          <p:cNvSpPr/>
          <p:nvPr/>
        </p:nvSpPr>
        <p:spPr>
          <a:xfrm>
            <a:off x="5237280" y="2286000"/>
            <a:ext cx="1403280" cy="344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Bookman Old Style"/>
              </a:rPr>
              <a:t>KEPALA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31"/>
          <p:cNvSpPr/>
          <p:nvPr/>
        </p:nvSpPr>
        <p:spPr>
          <a:xfrm>
            <a:off x="1371600" y="1160640"/>
            <a:ext cx="297180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marL="228600" indent="-2286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Bookman Old Styl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man Old Style"/>
              </a:rPr>
              <a:t>UPTD TAMAN BUDAYA DAN MUSEU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7620120" y="1092240"/>
            <a:ext cx="4054320" cy="11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02888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man Old Style"/>
              </a:rPr>
              <a:t>LAMPIRAN II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02888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man Old Style"/>
              </a:rPr>
              <a:t>PERATURAN GUBERNUR BANTEN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02888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Bookman Old Style"/>
              </a:rPr>
              <a:t>NOMOR       TAHUN 2018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02888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Bookman Old Style"/>
              </a:rPr>
              <a:t>TENTANG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02888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000000"/>
                </a:solidFill>
                <a:latin typeface="Bookman Old Style"/>
              </a:rPr>
              <a:t>PEMBENTUKAN ORGANISASI DAN TATA KERJA CABANG DINAS DAN UNIT PELAKSANA TEKNIS DAERAH DILINGKUNGAN PEMERINTAH PROVINSI BANTE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Footer Placeholder 2"/>
          <p:cNvSpPr/>
          <p:nvPr/>
        </p:nvSpPr>
        <p:spPr>
          <a:xfrm>
            <a:off x="4060800" y="7081920"/>
            <a:ext cx="37670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- 119 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-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31"/>
          <p:cNvSpPr/>
          <p:nvPr/>
        </p:nvSpPr>
        <p:spPr>
          <a:xfrm>
            <a:off x="4572000" y="1084320"/>
            <a:ext cx="274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man Old Style"/>
              </a:rPr>
              <a:t>BAGAN STRUKTUR ORGANISASI</a:t>
            </a:r>
            <a:br>
              <a:rPr sz="1000"/>
            </a:b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Line 4"/>
          <p:cNvSpPr/>
          <p:nvPr/>
        </p:nvSpPr>
        <p:spPr>
          <a:xfrm>
            <a:off x="5943600" y="2389320"/>
            <a:ext cx="9360" cy="20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7924680" y="2362320"/>
            <a:ext cx="1981440" cy="63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ts val="2024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SUB BAGIA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024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TATA USAHA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2003400" y="2938320"/>
            <a:ext cx="1981080" cy="420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KELOMPOK JABATA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FUNGSIONAL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7"/>
          <p:cNvSpPr/>
          <p:nvPr/>
        </p:nvSpPr>
        <p:spPr>
          <a:xfrm>
            <a:off x="2003400" y="360684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-57600" bIns="-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8"/>
          <p:cNvSpPr/>
          <p:nvPr/>
        </p:nvSpPr>
        <p:spPr>
          <a:xfrm>
            <a:off x="2003400" y="382896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-57600" bIns="-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9"/>
          <p:cNvSpPr/>
          <p:nvPr/>
        </p:nvSpPr>
        <p:spPr>
          <a:xfrm>
            <a:off x="2003400" y="4037040"/>
            <a:ext cx="1981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-57600" bIns="-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10"/>
          <p:cNvSpPr/>
          <p:nvPr/>
        </p:nvSpPr>
        <p:spPr>
          <a:xfrm flipV="1">
            <a:off x="2003400" y="3373200"/>
            <a:ext cx="0" cy="66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11"/>
          <p:cNvSpPr/>
          <p:nvPr/>
        </p:nvSpPr>
        <p:spPr>
          <a:xfrm flipV="1">
            <a:off x="2287440" y="3373200"/>
            <a:ext cx="0" cy="66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12"/>
          <p:cNvSpPr/>
          <p:nvPr/>
        </p:nvSpPr>
        <p:spPr>
          <a:xfrm flipV="1">
            <a:off x="3984480" y="3373200"/>
            <a:ext cx="0" cy="66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13"/>
          <p:cNvSpPr/>
          <p:nvPr/>
        </p:nvSpPr>
        <p:spPr>
          <a:xfrm flipV="1">
            <a:off x="3106800" y="3385800"/>
            <a:ext cx="0" cy="64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14"/>
          <p:cNvSpPr/>
          <p:nvPr/>
        </p:nvSpPr>
        <p:spPr>
          <a:xfrm flipV="1">
            <a:off x="3405240" y="3373200"/>
            <a:ext cx="0" cy="66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15"/>
          <p:cNvSpPr/>
          <p:nvPr/>
        </p:nvSpPr>
        <p:spPr>
          <a:xfrm flipV="1">
            <a:off x="3687840" y="3373200"/>
            <a:ext cx="0" cy="66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16"/>
          <p:cNvSpPr/>
          <p:nvPr/>
        </p:nvSpPr>
        <p:spPr>
          <a:xfrm flipV="1">
            <a:off x="2824200" y="337356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17"/>
          <p:cNvSpPr/>
          <p:nvPr/>
        </p:nvSpPr>
        <p:spPr>
          <a:xfrm flipV="1">
            <a:off x="2541600" y="337356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18"/>
          <p:cNvSpPr/>
          <p:nvPr/>
        </p:nvSpPr>
        <p:spPr>
          <a:xfrm>
            <a:off x="2994120" y="2685960"/>
            <a:ext cx="4919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-57600" bIns="-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19"/>
          <p:cNvSpPr/>
          <p:nvPr/>
        </p:nvSpPr>
        <p:spPr>
          <a:xfrm>
            <a:off x="2984400" y="2679840"/>
            <a:ext cx="0" cy="2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20"/>
          <p:cNvSpPr/>
          <p:nvPr/>
        </p:nvSpPr>
        <p:spPr>
          <a:xfrm>
            <a:off x="3822840" y="4462560"/>
            <a:ext cx="4228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-57600" bIns="-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21"/>
          <p:cNvSpPr/>
          <p:nvPr/>
        </p:nvSpPr>
        <p:spPr>
          <a:xfrm>
            <a:off x="5237280" y="2060640"/>
            <a:ext cx="1403280" cy="344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Bookman Old Style"/>
              </a:rPr>
              <a:t>KEPALA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22"/>
          <p:cNvSpPr/>
          <p:nvPr/>
        </p:nvSpPr>
        <p:spPr>
          <a:xfrm>
            <a:off x="2819520" y="4626000"/>
            <a:ext cx="2001600" cy="725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ts val="11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SEKSI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PEMANFAATA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23"/>
          <p:cNvSpPr/>
          <p:nvPr/>
        </p:nvSpPr>
        <p:spPr>
          <a:xfrm>
            <a:off x="3822840" y="4462560"/>
            <a:ext cx="0" cy="16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24"/>
          <p:cNvSpPr/>
          <p:nvPr/>
        </p:nvSpPr>
        <p:spPr>
          <a:xfrm>
            <a:off x="8061480" y="4462560"/>
            <a:ext cx="0" cy="16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26"/>
          <p:cNvSpPr/>
          <p:nvPr/>
        </p:nvSpPr>
        <p:spPr>
          <a:xfrm>
            <a:off x="6954840" y="4627440"/>
            <a:ext cx="2212920" cy="725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SEKSI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EVALUASI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31"/>
          <p:cNvSpPr/>
          <p:nvPr/>
        </p:nvSpPr>
        <p:spPr>
          <a:xfrm>
            <a:off x="1371600" y="976320"/>
            <a:ext cx="32767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marL="228600" indent="-2286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Bookman Old Style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man Old Style"/>
              </a:rPr>
              <a:t>UPTD BALAI TEKNOLOGI, INFORMASI DAN KOMUNIKASI PENDIDIKA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Footer Placeholder 2"/>
          <p:cNvSpPr/>
          <p:nvPr/>
        </p:nvSpPr>
        <p:spPr>
          <a:xfrm>
            <a:off x="4060800" y="7081920"/>
            <a:ext cx="37670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- 120 -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Line 95"/>
          <p:cNvSpPr/>
          <p:nvPr/>
        </p:nvSpPr>
        <p:spPr>
          <a:xfrm>
            <a:off x="5826240" y="1959120"/>
            <a:ext cx="0" cy="1118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76"/>
          <p:cNvSpPr/>
          <p:nvPr/>
        </p:nvSpPr>
        <p:spPr>
          <a:xfrm>
            <a:off x="2278080" y="2886120"/>
            <a:ext cx="7132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-57600" bIns="-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14"/>
          <p:cNvSpPr/>
          <p:nvPr/>
        </p:nvSpPr>
        <p:spPr>
          <a:xfrm>
            <a:off x="4498920" y="1684440"/>
            <a:ext cx="2745000" cy="259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id-ID" sz="1000" spc="-1" strike="noStrike">
                <a:solidFill>
                  <a:srgbClr val="000000"/>
                </a:solidFill>
                <a:latin typeface="Bookman Old Style"/>
              </a:rPr>
              <a:t>DIREKTUR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243"/>
          <p:cNvSpPr/>
          <p:nvPr/>
        </p:nvSpPr>
        <p:spPr>
          <a:xfrm>
            <a:off x="2278080" y="2886120"/>
            <a:ext cx="0" cy="74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16920" bIns="1692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273"/>
          <p:cNvSpPr/>
          <p:nvPr/>
        </p:nvSpPr>
        <p:spPr>
          <a:xfrm>
            <a:off x="1287360" y="2978280"/>
            <a:ext cx="2009880" cy="381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Bookman Old Style"/>
              </a:rPr>
              <a:t>WAKIL DIREKTUR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Bookman Old Style"/>
              </a:rPr>
              <a:t>PELAYANAN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496"/>
          <p:cNvSpPr/>
          <p:nvPr/>
        </p:nvSpPr>
        <p:spPr>
          <a:xfrm>
            <a:off x="237960" y="6257880"/>
            <a:ext cx="1729080" cy="320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Bookman Old Style"/>
              </a:rPr>
              <a:t>KELOMPOK JABATAN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Bookman Old Style"/>
              </a:rPr>
              <a:t>FUNGSIONAL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497"/>
          <p:cNvSpPr/>
          <p:nvPr/>
        </p:nvSpPr>
        <p:spPr>
          <a:xfrm>
            <a:off x="231840" y="6705720"/>
            <a:ext cx="1735200" cy="6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-51480" bIns="-514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498"/>
          <p:cNvSpPr/>
          <p:nvPr/>
        </p:nvSpPr>
        <p:spPr>
          <a:xfrm>
            <a:off x="237960" y="6837480"/>
            <a:ext cx="1729080" cy="6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-51480" bIns="-514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499"/>
          <p:cNvSpPr/>
          <p:nvPr/>
        </p:nvSpPr>
        <p:spPr>
          <a:xfrm flipV="1">
            <a:off x="222120" y="6937200"/>
            <a:ext cx="1747800" cy="5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-52560" bIns="-52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500"/>
          <p:cNvSpPr/>
          <p:nvPr/>
        </p:nvSpPr>
        <p:spPr>
          <a:xfrm flipH="1" flipV="1">
            <a:off x="237600" y="6453360"/>
            <a:ext cx="1800" cy="474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502"/>
          <p:cNvSpPr/>
          <p:nvPr/>
        </p:nvSpPr>
        <p:spPr>
          <a:xfrm flipV="1">
            <a:off x="1967040" y="6392880"/>
            <a:ext cx="0" cy="525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505"/>
          <p:cNvSpPr/>
          <p:nvPr/>
        </p:nvSpPr>
        <p:spPr>
          <a:xfrm flipV="1">
            <a:off x="1724040" y="6576840"/>
            <a:ext cx="0" cy="3621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510"/>
          <p:cNvSpPr/>
          <p:nvPr/>
        </p:nvSpPr>
        <p:spPr>
          <a:xfrm flipH="1" flipV="1">
            <a:off x="618840" y="6584760"/>
            <a:ext cx="6120" cy="3538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511"/>
          <p:cNvSpPr/>
          <p:nvPr/>
        </p:nvSpPr>
        <p:spPr>
          <a:xfrm flipV="1">
            <a:off x="431640" y="6579720"/>
            <a:ext cx="0" cy="358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512"/>
          <p:cNvSpPr/>
          <p:nvPr/>
        </p:nvSpPr>
        <p:spPr>
          <a:xfrm>
            <a:off x="987480" y="2052720"/>
            <a:ext cx="9704160" cy="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-57600" bIns="-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692"/>
          <p:cNvSpPr/>
          <p:nvPr/>
        </p:nvSpPr>
        <p:spPr>
          <a:xfrm>
            <a:off x="4952880" y="2979720"/>
            <a:ext cx="1814760" cy="381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Bookman Old Style"/>
              </a:rPr>
              <a:t>WAKIL DIREKTUR PENUNJANG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944"/>
          <p:cNvSpPr/>
          <p:nvPr/>
        </p:nvSpPr>
        <p:spPr>
          <a:xfrm>
            <a:off x="9410760" y="2886120"/>
            <a:ext cx="0" cy="74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16920" bIns="1692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945"/>
          <p:cNvSpPr/>
          <p:nvPr/>
        </p:nvSpPr>
        <p:spPr>
          <a:xfrm>
            <a:off x="8420040" y="2960640"/>
            <a:ext cx="2009880" cy="381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Bookman Old Style"/>
              </a:rPr>
              <a:t>WAKIL DIREKTUR UMUM DAN KEUANGAN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1605"/>
          <p:cNvSpPr/>
          <p:nvPr/>
        </p:nvSpPr>
        <p:spPr>
          <a:xfrm flipV="1">
            <a:off x="1501920" y="6581520"/>
            <a:ext cx="0" cy="3603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1606"/>
          <p:cNvSpPr/>
          <p:nvPr/>
        </p:nvSpPr>
        <p:spPr>
          <a:xfrm flipV="1">
            <a:off x="1271520" y="6587640"/>
            <a:ext cx="0" cy="3603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1607"/>
          <p:cNvSpPr/>
          <p:nvPr/>
        </p:nvSpPr>
        <p:spPr>
          <a:xfrm flipV="1">
            <a:off x="1036800" y="6581520"/>
            <a:ext cx="0" cy="3603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1608"/>
          <p:cNvSpPr/>
          <p:nvPr/>
        </p:nvSpPr>
        <p:spPr>
          <a:xfrm flipV="1">
            <a:off x="814320" y="6581520"/>
            <a:ext cx="0" cy="3603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1437"/>
          <p:cNvSpPr/>
          <p:nvPr/>
        </p:nvSpPr>
        <p:spPr>
          <a:xfrm>
            <a:off x="374760" y="3803760"/>
            <a:ext cx="1623960" cy="381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Bookman Old Style"/>
              </a:rPr>
              <a:t>BIDANG PELAYANAN MED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532"/>
          <p:cNvSpPr/>
          <p:nvPr/>
        </p:nvSpPr>
        <p:spPr>
          <a:xfrm>
            <a:off x="2567160" y="3770280"/>
            <a:ext cx="1296720" cy="381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Bookman Old Style"/>
              </a:rPr>
              <a:t>BIDANG KEPERAWATAN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692"/>
          <p:cNvSpPr/>
          <p:nvPr/>
        </p:nvSpPr>
        <p:spPr>
          <a:xfrm>
            <a:off x="384120" y="2381400"/>
            <a:ext cx="1009800" cy="261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692"/>
          <p:cNvSpPr/>
          <p:nvPr/>
        </p:nvSpPr>
        <p:spPr>
          <a:xfrm>
            <a:off x="482760" y="2284560"/>
            <a:ext cx="1009440" cy="259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000000"/>
                </a:solidFill>
                <a:latin typeface="Bookman Old Style"/>
              </a:rPr>
              <a:t>KOMITE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Straight Connector 62"/>
          <p:cNvSpPr/>
          <p:nvPr/>
        </p:nvSpPr>
        <p:spPr>
          <a:xfrm flipH="1">
            <a:off x="976320" y="2055960"/>
            <a:ext cx="1440" cy="2062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692"/>
          <p:cNvSpPr/>
          <p:nvPr/>
        </p:nvSpPr>
        <p:spPr>
          <a:xfrm>
            <a:off x="9707400" y="2417760"/>
            <a:ext cx="1684440" cy="412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Straight Connector 65"/>
          <p:cNvSpPr/>
          <p:nvPr/>
        </p:nvSpPr>
        <p:spPr>
          <a:xfrm flipH="1">
            <a:off x="10688760" y="2077920"/>
            <a:ext cx="2880" cy="2066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Straight Connector 70"/>
          <p:cNvSpPr/>
          <p:nvPr/>
        </p:nvSpPr>
        <p:spPr>
          <a:xfrm flipH="1">
            <a:off x="2276640" y="3352680"/>
            <a:ext cx="1440" cy="206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Straight Connector 73"/>
          <p:cNvSpPr/>
          <p:nvPr/>
        </p:nvSpPr>
        <p:spPr>
          <a:xfrm flipH="1">
            <a:off x="1068480" y="3589200"/>
            <a:ext cx="1440" cy="206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Straight Connector 74"/>
          <p:cNvSpPr/>
          <p:nvPr/>
        </p:nvSpPr>
        <p:spPr>
          <a:xfrm flipH="1">
            <a:off x="3230640" y="3560760"/>
            <a:ext cx="1440" cy="206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1437"/>
          <p:cNvSpPr/>
          <p:nvPr/>
        </p:nvSpPr>
        <p:spPr>
          <a:xfrm>
            <a:off x="4060800" y="3782880"/>
            <a:ext cx="1585800" cy="381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Bookman Old Style"/>
              </a:rPr>
              <a:t>BIDANG 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Bookman Old Style"/>
              </a:rPr>
              <a:t>LOGISTIK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traight Connector 77"/>
          <p:cNvSpPr/>
          <p:nvPr/>
        </p:nvSpPr>
        <p:spPr>
          <a:xfrm flipH="1">
            <a:off x="5829480" y="3352680"/>
            <a:ext cx="1440" cy="206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Straight Connector 79"/>
          <p:cNvSpPr/>
          <p:nvPr/>
        </p:nvSpPr>
        <p:spPr>
          <a:xfrm flipH="1">
            <a:off x="4741560" y="3560760"/>
            <a:ext cx="3240" cy="206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Straight Connector 82"/>
          <p:cNvSpPr/>
          <p:nvPr/>
        </p:nvSpPr>
        <p:spPr>
          <a:xfrm>
            <a:off x="4754520" y="3559320"/>
            <a:ext cx="2081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Straight Connector 85"/>
          <p:cNvSpPr/>
          <p:nvPr/>
        </p:nvSpPr>
        <p:spPr>
          <a:xfrm flipH="1">
            <a:off x="9433080" y="3341520"/>
            <a:ext cx="2880" cy="204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Straight Connector 86"/>
          <p:cNvSpPr/>
          <p:nvPr/>
        </p:nvSpPr>
        <p:spPr>
          <a:xfrm flipH="1">
            <a:off x="8494200" y="3549600"/>
            <a:ext cx="1800" cy="206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Straight Connector 87"/>
          <p:cNvSpPr/>
          <p:nvPr/>
        </p:nvSpPr>
        <p:spPr>
          <a:xfrm flipH="1">
            <a:off x="10352160" y="3549600"/>
            <a:ext cx="1440" cy="206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Straight Connector 90"/>
          <p:cNvSpPr/>
          <p:nvPr/>
        </p:nvSpPr>
        <p:spPr>
          <a:xfrm>
            <a:off x="8481960" y="3559320"/>
            <a:ext cx="1882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69"/>
          <p:cNvSpPr/>
          <p:nvPr/>
        </p:nvSpPr>
        <p:spPr>
          <a:xfrm>
            <a:off x="1039680" y="4189320"/>
            <a:ext cx="0" cy="17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Straight Connector 74"/>
          <p:cNvSpPr/>
          <p:nvPr/>
        </p:nvSpPr>
        <p:spPr>
          <a:xfrm>
            <a:off x="312840" y="4362480"/>
            <a:ext cx="723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66"/>
          <p:cNvSpPr/>
          <p:nvPr/>
        </p:nvSpPr>
        <p:spPr>
          <a:xfrm>
            <a:off x="476280" y="4449600"/>
            <a:ext cx="1528560" cy="390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Bookman Old Style"/>
              </a:rPr>
              <a:t>SEKSI OPERASIONAL PELAYANAN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66"/>
          <p:cNvSpPr/>
          <p:nvPr/>
        </p:nvSpPr>
        <p:spPr>
          <a:xfrm>
            <a:off x="477720" y="4992840"/>
            <a:ext cx="1528920" cy="390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Bookman Old Style"/>
              </a:rPr>
              <a:t>SEKSI PEMANTAUAN PELAYANAN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Straight Connector 82"/>
          <p:cNvSpPr/>
          <p:nvPr/>
        </p:nvSpPr>
        <p:spPr>
          <a:xfrm>
            <a:off x="304920" y="4354560"/>
            <a:ext cx="0" cy="833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Straight Connector 90"/>
          <p:cNvSpPr/>
          <p:nvPr/>
        </p:nvSpPr>
        <p:spPr>
          <a:xfrm>
            <a:off x="309600" y="4627440"/>
            <a:ext cx="160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Straight Connector 91"/>
          <p:cNvSpPr/>
          <p:nvPr/>
        </p:nvSpPr>
        <p:spPr>
          <a:xfrm>
            <a:off x="309600" y="5183280"/>
            <a:ext cx="160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69"/>
          <p:cNvSpPr/>
          <p:nvPr/>
        </p:nvSpPr>
        <p:spPr>
          <a:xfrm>
            <a:off x="3232080" y="4152960"/>
            <a:ext cx="0" cy="172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Straight Connector 94"/>
          <p:cNvSpPr/>
          <p:nvPr/>
        </p:nvSpPr>
        <p:spPr>
          <a:xfrm>
            <a:off x="2347920" y="4334040"/>
            <a:ext cx="892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66"/>
          <p:cNvSpPr/>
          <p:nvPr/>
        </p:nvSpPr>
        <p:spPr>
          <a:xfrm>
            <a:off x="2544840" y="4421160"/>
            <a:ext cx="1319040" cy="527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Bookman Old Style"/>
              </a:rPr>
              <a:t>SEKSI ASUHAN</a:t>
            </a:r>
            <a:r>
              <a:rPr b="0" lang="en-US" sz="900" spc="-1" strike="noStrike">
                <a:solidFill>
                  <a:srgbClr val="000000"/>
                </a:solidFill>
                <a:latin typeface="Bookman Old Style"/>
              </a:rPr>
              <a:t>, ETIKA DAN MUTU</a:t>
            </a:r>
            <a:r>
              <a:rPr b="0" lang="id-ID" sz="900" spc="-1" strike="noStrike">
                <a:solidFill>
                  <a:srgbClr val="000000"/>
                </a:solidFill>
                <a:latin typeface="Bookman Old Style"/>
              </a:rPr>
              <a:t> KEPERAWATAN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66"/>
          <p:cNvSpPr/>
          <p:nvPr/>
        </p:nvSpPr>
        <p:spPr>
          <a:xfrm>
            <a:off x="2546280" y="5038560"/>
            <a:ext cx="1317600" cy="664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Bookman Old Style"/>
              </a:rPr>
              <a:t>SEKSI PEMBINAAN DAN PENGEMBANGAN KEPERAWATAN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Straight Connector 97"/>
          <p:cNvSpPr/>
          <p:nvPr/>
        </p:nvSpPr>
        <p:spPr>
          <a:xfrm>
            <a:off x="2352600" y="4334040"/>
            <a:ext cx="0" cy="83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Straight Connector 98"/>
          <p:cNvSpPr/>
          <p:nvPr/>
        </p:nvSpPr>
        <p:spPr>
          <a:xfrm>
            <a:off x="2352600" y="4599000"/>
            <a:ext cx="19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Straight Connector 99"/>
          <p:cNvSpPr/>
          <p:nvPr/>
        </p:nvSpPr>
        <p:spPr>
          <a:xfrm>
            <a:off x="2352600" y="5165640"/>
            <a:ext cx="19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Straight Connector 69"/>
          <p:cNvSpPr/>
          <p:nvPr/>
        </p:nvSpPr>
        <p:spPr>
          <a:xfrm flipV="1">
            <a:off x="1069920" y="3559320"/>
            <a:ext cx="21621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692"/>
          <p:cNvSpPr/>
          <p:nvPr/>
        </p:nvSpPr>
        <p:spPr>
          <a:xfrm>
            <a:off x="2463840" y="6367320"/>
            <a:ext cx="1009440" cy="259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000000"/>
                </a:solidFill>
                <a:latin typeface="Bookman Old Style"/>
              </a:rPr>
              <a:t>KOMITE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692"/>
          <p:cNvSpPr/>
          <p:nvPr/>
        </p:nvSpPr>
        <p:spPr>
          <a:xfrm>
            <a:off x="2563920" y="6270480"/>
            <a:ext cx="1008000" cy="25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000000"/>
                </a:solidFill>
                <a:latin typeface="Bookman Old Style"/>
              </a:rPr>
              <a:t>INSTALASI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Straight Connector 74"/>
          <p:cNvSpPr/>
          <p:nvPr/>
        </p:nvSpPr>
        <p:spPr>
          <a:xfrm>
            <a:off x="2278080" y="3559320"/>
            <a:ext cx="0" cy="2496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Straight Connector 73"/>
          <p:cNvSpPr/>
          <p:nvPr/>
        </p:nvSpPr>
        <p:spPr>
          <a:xfrm flipH="1">
            <a:off x="1141560" y="6056280"/>
            <a:ext cx="1440" cy="206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Straight Connector 73"/>
          <p:cNvSpPr/>
          <p:nvPr/>
        </p:nvSpPr>
        <p:spPr>
          <a:xfrm flipH="1">
            <a:off x="3061800" y="6056280"/>
            <a:ext cx="3240" cy="206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traight Connector 94"/>
          <p:cNvSpPr/>
          <p:nvPr/>
        </p:nvSpPr>
        <p:spPr>
          <a:xfrm>
            <a:off x="5832360" y="3559320"/>
            <a:ext cx="0" cy="2496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Straight Connector 95"/>
          <p:cNvSpPr/>
          <p:nvPr/>
        </p:nvSpPr>
        <p:spPr>
          <a:xfrm>
            <a:off x="4556160" y="6068880"/>
            <a:ext cx="2576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Straight Connector 73"/>
          <p:cNvSpPr/>
          <p:nvPr/>
        </p:nvSpPr>
        <p:spPr>
          <a:xfrm flipH="1">
            <a:off x="4554000" y="6064200"/>
            <a:ext cx="1800" cy="206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Straight Connector 73"/>
          <p:cNvSpPr/>
          <p:nvPr/>
        </p:nvSpPr>
        <p:spPr>
          <a:xfrm flipH="1">
            <a:off x="7130520" y="6064200"/>
            <a:ext cx="1800" cy="206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Straight Connector 99"/>
          <p:cNvSpPr/>
          <p:nvPr/>
        </p:nvSpPr>
        <p:spPr>
          <a:xfrm flipV="1">
            <a:off x="1141560" y="6055920"/>
            <a:ext cx="1928520" cy="12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69"/>
          <p:cNvSpPr/>
          <p:nvPr/>
        </p:nvSpPr>
        <p:spPr>
          <a:xfrm>
            <a:off x="4754520" y="4151160"/>
            <a:ext cx="0" cy="17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Straight Connector 74"/>
          <p:cNvSpPr/>
          <p:nvPr/>
        </p:nvSpPr>
        <p:spPr>
          <a:xfrm>
            <a:off x="4037040" y="4324320"/>
            <a:ext cx="723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66"/>
          <p:cNvSpPr/>
          <p:nvPr/>
        </p:nvSpPr>
        <p:spPr>
          <a:xfrm>
            <a:off x="4183200" y="4403880"/>
            <a:ext cx="1463400" cy="390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Bookman Old Style"/>
              </a:rPr>
              <a:t>SEKSI PENGELOLAAN BARANG MEDIS 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66"/>
          <p:cNvSpPr/>
          <p:nvPr/>
        </p:nvSpPr>
        <p:spPr>
          <a:xfrm>
            <a:off x="4202280" y="5029200"/>
            <a:ext cx="1444320" cy="527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Bookman Old Style"/>
              </a:rPr>
              <a:t>SEKSI PENGELOLAAN BARANG NON MED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Straight Connector 82"/>
          <p:cNvSpPr/>
          <p:nvPr/>
        </p:nvSpPr>
        <p:spPr>
          <a:xfrm>
            <a:off x="4029120" y="4316400"/>
            <a:ext cx="0" cy="833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traight Connector 90"/>
          <p:cNvSpPr/>
          <p:nvPr/>
        </p:nvSpPr>
        <p:spPr>
          <a:xfrm>
            <a:off x="4024440" y="4589640"/>
            <a:ext cx="160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Straight Connector 91"/>
          <p:cNvSpPr/>
          <p:nvPr/>
        </p:nvSpPr>
        <p:spPr>
          <a:xfrm>
            <a:off x="4024440" y="5137200"/>
            <a:ext cx="160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traight Connector 74"/>
          <p:cNvSpPr/>
          <p:nvPr/>
        </p:nvSpPr>
        <p:spPr>
          <a:xfrm>
            <a:off x="6116760" y="4471920"/>
            <a:ext cx="725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66"/>
          <p:cNvSpPr/>
          <p:nvPr/>
        </p:nvSpPr>
        <p:spPr>
          <a:xfrm>
            <a:off x="6292800" y="4567320"/>
            <a:ext cx="1335240" cy="390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Bookman Old Style"/>
              </a:rPr>
              <a:t>SEKSI REKAM MEDIS</a:t>
            </a:r>
            <a:r>
              <a:rPr b="0" lang="en-US" sz="900" spc="-1" strike="noStrike">
                <a:solidFill>
                  <a:srgbClr val="000000"/>
                </a:solidFill>
                <a:latin typeface="Bookman Old Style"/>
              </a:rPr>
              <a:t> DAN PELAPORAN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66"/>
          <p:cNvSpPr/>
          <p:nvPr/>
        </p:nvSpPr>
        <p:spPr>
          <a:xfrm>
            <a:off x="6299280" y="5145120"/>
            <a:ext cx="1328760" cy="664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Bookman Old Style"/>
              </a:rPr>
              <a:t>SEKSI SISTEM INFORMASI MANAJEMEN RUMAH SAKIT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Straight Connector 82"/>
          <p:cNvSpPr/>
          <p:nvPr/>
        </p:nvSpPr>
        <p:spPr>
          <a:xfrm>
            <a:off x="6121440" y="4476600"/>
            <a:ext cx="0" cy="831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Straight Connector 90"/>
          <p:cNvSpPr/>
          <p:nvPr/>
        </p:nvSpPr>
        <p:spPr>
          <a:xfrm>
            <a:off x="6124680" y="4761000"/>
            <a:ext cx="162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Straight Connector 91"/>
          <p:cNvSpPr/>
          <p:nvPr/>
        </p:nvSpPr>
        <p:spPr>
          <a:xfrm>
            <a:off x="6124680" y="5305320"/>
            <a:ext cx="162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69"/>
          <p:cNvSpPr/>
          <p:nvPr/>
        </p:nvSpPr>
        <p:spPr>
          <a:xfrm>
            <a:off x="8501040" y="4129200"/>
            <a:ext cx="0" cy="172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Straight Connector 74"/>
          <p:cNvSpPr/>
          <p:nvPr/>
        </p:nvSpPr>
        <p:spPr>
          <a:xfrm>
            <a:off x="7765920" y="4295880"/>
            <a:ext cx="723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66"/>
          <p:cNvSpPr/>
          <p:nvPr/>
        </p:nvSpPr>
        <p:spPr>
          <a:xfrm>
            <a:off x="7937640" y="4425840"/>
            <a:ext cx="1349280" cy="359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800" spc="-1" strike="noStrike">
                <a:solidFill>
                  <a:srgbClr val="000000"/>
                </a:solidFill>
                <a:latin typeface="Bookman Old Style"/>
              </a:rPr>
              <a:t>SUBAG UMUM DAN KEPEGAWAIAN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66"/>
          <p:cNvSpPr/>
          <p:nvPr/>
        </p:nvSpPr>
        <p:spPr>
          <a:xfrm>
            <a:off x="7943760" y="4927680"/>
            <a:ext cx="1330560" cy="724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800" spc="-1" strike="noStrike">
                <a:solidFill>
                  <a:srgbClr val="000000"/>
                </a:solidFill>
                <a:latin typeface="Bookman Old Style"/>
              </a:rPr>
              <a:t>SUBAG PENDIDIKAN DAN PELATIHAN</a:t>
            </a: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, PERENCANAAN, EVALUASI DAN PELAPORAN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Straight Connector 90"/>
          <p:cNvSpPr/>
          <p:nvPr/>
        </p:nvSpPr>
        <p:spPr>
          <a:xfrm>
            <a:off x="7770960" y="4552920"/>
            <a:ext cx="160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Straight Connector 91"/>
          <p:cNvSpPr/>
          <p:nvPr/>
        </p:nvSpPr>
        <p:spPr>
          <a:xfrm>
            <a:off x="7764480" y="5038560"/>
            <a:ext cx="160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69"/>
          <p:cNvSpPr/>
          <p:nvPr/>
        </p:nvSpPr>
        <p:spPr>
          <a:xfrm>
            <a:off x="10382400" y="4129200"/>
            <a:ext cx="0" cy="172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Straight Connector 74"/>
          <p:cNvSpPr/>
          <p:nvPr/>
        </p:nvSpPr>
        <p:spPr>
          <a:xfrm>
            <a:off x="9653760" y="4295880"/>
            <a:ext cx="723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66"/>
          <p:cNvSpPr/>
          <p:nvPr/>
        </p:nvSpPr>
        <p:spPr>
          <a:xfrm>
            <a:off x="9810720" y="4367160"/>
            <a:ext cx="1482840" cy="527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Bookman Old Style"/>
              </a:rPr>
              <a:t>SUBAG ANGGARAN </a:t>
            </a:r>
            <a:r>
              <a:rPr b="0" lang="en-US" sz="9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d-ID" sz="900" spc="-1" strike="noStrike">
                <a:solidFill>
                  <a:srgbClr val="000000"/>
                </a:solidFill>
                <a:latin typeface="Bookman Old Style"/>
              </a:rPr>
              <a:t>DAN AKUNTANSI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66"/>
          <p:cNvSpPr/>
          <p:nvPr/>
        </p:nvSpPr>
        <p:spPr>
          <a:xfrm>
            <a:off x="9807480" y="4960800"/>
            <a:ext cx="1467000" cy="481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800" spc="-1" strike="noStrike">
                <a:solidFill>
                  <a:srgbClr val="000000"/>
                </a:solidFill>
                <a:latin typeface="Bookman Old Style"/>
              </a:rPr>
              <a:t>SUBAG PERBENDAHARAAN DAN VERIFIKAS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Straight Connector 90"/>
          <p:cNvSpPr/>
          <p:nvPr/>
        </p:nvSpPr>
        <p:spPr>
          <a:xfrm>
            <a:off x="9651960" y="4552920"/>
            <a:ext cx="162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Straight Connector 91"/>
          <p:cNvSpPr/>
          <p:nvPr/>
        </p:nvSpPr>
        <p:spPr>
          <a:xfrm>
            <a:off x="9651960" y="5038560"/>
            <a:ext cx="162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692"/>
          <p:cNvSpPr/>
          <p:nvPr/>
        </p:nvSpPr>
        <p:spPr>
          <a:xfrm>
            <a:off x="9807480" y="2290680"/>
            <a:ext cx="1683000" cy="412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000000"/>
                </a:solidFill>
                <a:latin typeface="Bookman Old Style"/>
              </a:rPr>
              <a:t>SATUAN PENGAWAS INTERNAL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Straight Connector 124"/>
          <p:cNvSpPr/>
          <p:nvPr/>
        </p:nvSpPr>
        <p:spPr>
          <a:xfrm>
            <a:off x="6829560" y="3559320"/>
            <a:ext cx="0" cy="13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Straight Connector 126"/>
          <p:cNvSpPr/>
          <p:nvPr/>
        </p:nvSpPr>
        <p:spPr>
          <a:xfrm>
            <a:off x="6835680" y="4327560"/>
            <a:ext cx="0" cy="139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Straight Connector 122"/>
          <p:cNvSpPr/>
          <p:nvPr/>
        </p:nvSpPr>
        <p:spPr>
          <a:xfrm flipH="1">
            <a:off x="9658440" y="4299120"/>
            <a:ext cx="1440" cy="728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Straight Connector 123"/>
          <p:cNvSpPr/>
          <p:nvPr/>
        </p:nvSpPr>
        <p:spPr>
          <a:xfrm flipH="1">
            <a:off x="7764480" y="4300560"/>
            <a:ext cx="1440" cy="728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692"/>
          <p:cNvSpPr/>
          <p:nvPr/>
        </p:nvSpPr>
        <p:spPr>
          <a:xfrm>
            <a:off x="6556320" y="6373800"/>
            <a:ext cx="1009800" cy="259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000000"/>
                </a:solidFill>
                <a:latin typeface="Bookman Old Style"/>
              </a:rPr>
              <a:t>KOMITE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692"/>
          <p:cNvSpPr/>
          <p:nvPr/>
        </p:nvSpPr>
        <p:spPr>
          <a:xfrm>
            <a:off x="6654960" y="6276960"/>
            <a:ext cx="1009440" cy="259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000000"/>
                </a:solidFill>
                <a:latin typeface="Bookman Old Style"/>
              </a:rPr>
              <a:t>INSTALASI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496"/>
          <p:cNvSpPr/>
          <p:nvPr/>
        </p:nvSpPr>
        <p:spPr>
          <a:xfrm>
            <a:off x="3678120" y="6272280"/>
            <a:ext cx="1729080" cy="320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Bookman Old Style"/>
              </a:rPr>
              <a:t>KELOMPOK JABATAN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Bookman Old Style"/>
              </a:rPr>
              <a:t>FUNGSIONAL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497"/>
          <p:cNvSpPr/>
          <p:nvPr/>
        </p:nvSpPr>
        <p:spPr>
          <a:xfrm>
            <a:off x="3672000" y="6719760"/>
            <a:ext cx="1735200" cy="6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-51120" bIns="-5112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498"/>
          <p:cNvSpPr/>
          <p:nvPr/>
        </p:nvSpPr>
        <p:spPr>
          <a:xfrm>
            <a:off x="3678120" y="6851520"/>
            <a:ext cx="1729080" cy="6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-51120" bIns="-5112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499"/>
          <p:cNvSpPr/>
          <p:nvPr/>
        </p:nvSpPr>
        <p:spPr>
          <a:xfrm flipV="1">
            <a:off x="3662280" y="6951240"/>
            <a:ext cx="174780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-52920" bIns="-5292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500"/>
          <p:cNvSpPr/>
          <p:nvPr/>
        </p:nvSpPr>
        <p:spPr>
          <a:xfrm flipH="1" flipV="1">
            <a:off x="3677760" y="6467040"/>
            <a:ext cx="1800" cy="474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502"/>
          <p:cNvSpPr/>
          <p:nvPr/>
        </p:nvSpPr>
        <p:spPr>
          <a:xfrm flipV="1">
            <a:off x="5407200" y="6406920"/>
            <a:ext cx="0" cy="525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505"/>
          <p:cNvSpPr/>
          <p:nvPr/>
        </p:nvSpPr>
        <p:spPr>
          <a:xfrm flipV="1">
            <a:off x="5164200" y="6591240"/>
            <a:ext cx="0" cy="3621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510"/>
          <p:cNvSpPr/>
          <p:nvPr/>
        </p:nvSpPr>
        <p:spPr>
          <a:xfrm flipH="1" flipV="1">
            <a:off x="4059000" y="6599160"/>
            <a:ext cx="6120" cy="3542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511"/>
          <p:cNvSpPr/>
          <p:nvPr/>
        </p:nvSpPr>
        <p:spPr>
          <a:xfrm flipV="1">
            <a:off x="3871800" y="6594120"/>
            <a:ext cx="0" cy="358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1605"/>
          <p:cNvSpPr/>
          <p:nvPr/>
        </p:nvSpPr>
        <p:spPr>
          <a:xfrm flipV="1">
            <a:off x="4941720" y="6595560"/>
            <a:ext cx="0" cy="3603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1606"/>
          <p:cNvSpPr/>
          <p:nvPr/>
        </p:nvSpPr>
        <p:spPr>
          <a:xfrm flipV="1">
            <a:off x="4711680" y="6602040"/>
            <a:ext cx="0" cy="3603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1607"/>
          <p:cNvSpPr/>
          <p:nvPr/>
        </p:nvSpPr>
        <p:spPr>
          <a:xfrm flipV="1">
            <a:off x="4476600" y="6595560"/>
            <a:ext cx="0" cy="3603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1608"/>
          <p:cNvSpPr/>
          <p:nvPr/>
        </p:nvSpPr>
        <p:spPr>
          <a:xfrm flipV="1">
            <a:off x="4254480" y="6595560"/>
            <a:ext cx="0" cy="3603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1532"/>
          <p:cNvSpPr/>
          <p:nvPr/>
        </p:nvSpPr>
        <p:spPr>
          <a:xfrm>
            <a:off x="5992920" y="3697200"/>
            <a:ext cx="1684080" cy="656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Bookman Old Style"/>
              </a:rPr>
              <a:t>BIDANG REKAM MEDIS DAN SISTEM INFORMASI MANAJEMEN RUMAH SAKIT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1437"/>
          <p:cNvSpPr/>
          <p:nvPr/>
        </p:nvSpPr>
        <p:spPr>
          <a:xfrm>
            <a:off x="7751880" y="3770280"/>
            <a:ext cx="1527120" cy="381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Bookman Old Style"/>
              </a:rPr>
              <a:t>BAGIAN 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Bookman Old Style"/>
              </a:rPr>
              <a:t>UMUM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1532"/>
          <p:cNvSpPr/>
          <p:nvPr/>
        </p:nvSpPr>
        <p:spPr>
          <a:xfrm>
            <a:off x="9612360" y="3767040"/>
            <a:ext cx="1681200" cy="381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Bookman Old Style"/>
              </a:rPr>
              <a:t>BAGIAN KEUANGAN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31"/>
          <p:cNvSpPr/>
          <p:nvPr/>
        </p:nvSpPr>
        <p:spPr>
          <a:xfrm>
            <a:off x="1393920" y="646200"/>
            <a:ext cx="37702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marL="228600" indent="-2286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Bookman Old Style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man Old Style"/>
              </a:rPr>
              <a:t>UPTD RUMAH SAKIT UMUM DAERAH  BANTE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Footer Placeholder 2"/>
          <p:cNvSpPr/>
          <p:nvPr/>
        </p:nvSpPr>
        <p:spPr>
          <a:xfrm>
            <a:off x="4060800" y="7081920"/>
            <a:ext cx="37670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- 121 -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Line 21"/>
          <p:cNvSpPr/>
          <p:nvPr/>
        </p:nvSpPr>
        <p:spPr>
          <a:xfrm>
            <a:off x="5784840" y="6810480"/>
            <a:ext cx="135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-57600" bIns="-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22"/>
          <p:cNvSpPr/>
          <p:nvPr/>
        </p:nvSpPr>
        <p:spPr>
          <a:xfrm>
            <a:off x="5784840" y="7031160"/>
            <a:ext cx="135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-57600" bIns="-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23"/>
          <p:cNvSpPr/>
          <p:nvPr/>
        </p:nvSpPr>
        <p:spPr>
          <a:xfrm>
            <a:off x="5784840" y="7227720"/>
            <a:ext cx="1352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-57600" bIns="-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24"/>
          <p:cNvSpPr/>
          <p:nvPr/>
        </p:nvSpPr>
        <p:spPr>
          <a:xfrm flipV="1">
            <a:off x="5789520" y="6551640"/>
            <a:ext cx="0" cy="666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27"/>
          <p:cNvSpPr/>
          <p:nvPr/>
        </p:nvSpPr>
        <p:spPr>
          <a:xfrm flipV="1">
            <a:off x="6573960" y="6586200"/>
            <a:ext cx="0" cy="64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28"/>
          <p:cNvSpPr/>
          <p:nvPr/>
        </p:nvSpPr>
        <p:spPr>
          <a:xfrm flipV="1">
            <a:off x="6872400" y="6564240"/>
            <a:ext cx="0" cy="66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29"/>
          <p:cNvSpPr/>
          <p:nvPr/>
        </p:nvSpPr>
        <p:spPr>
          <a:xfrm flipV="1">
            <a:off x="7143840" y="6564240"/>
            <a:ext cx="0" cy="666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30"/>
          <p:cNvSpPr/>
          <p:nvPr/>
        </p:nvSpPr>
        <p:spPr>
          <a:xfrm flipV="1">
            <a:off x="6291360" y="657540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31"/>
          <p:cNvSpPr/>
          <p:nvPr/>
        </p:nvSpPr>
        <p:spPr>
          <a:xfrm flipV="1">
            <a:off x="6008760" y="657540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32"/>
          <p:cNvSpPr/>
          <p:nvPr/>
        </p:nvSpPr>
        <p:spPr>
          <a:xfrm>
            <a:off x="2498760" y="1523880"/>
            <a:ext cx="0" cy="258840"/>
          </a:xfrm>
          <a:prstGeom prst="line">
            <a:avLst/>
          </a:prstGeom>
          <a:ln w="1908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44"/>
          <p:cNvSpPr/>
          <p:nvPr/>
        </p:nvSpPr>
        <p:spPr>
          <a:xfrm>
            <a:off x="2590920" y="3449520"/>
            <a:ext cx="0" cy="16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79"/>
          <p:cNvSpPr/>
          <p:nvPr/>
        </p:nvSpPr>
        <p:spPr>
          <a:xfrm>
            <a:off x="2500200" y="1523880"/>
            <a:ext cx="7939080" cy="0"/>
          </a:xfrm>
          <a:prstGeom prst="line">
            <a:avLst/>
          </a:prstGeom>
          <a:ln w="1908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-57600" bIns="-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90"/>
          <p:cNvSpPr/>
          <p:nvPr/>
        </p:nvSpPr>
        <p:spPr>
          <a:xfrm>
            <a:off x="7824960" y="6472080"/>
            <a:ext cx="31701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Straight Connector 63"/>
          <p:cNvSpPr/>
          <p:nvPr/>
        </p:nvSpPr>
        <p:spPr>
          <a:xfrm>
            <a:off x="2595600" y="3452760"/>
            <a:ext cx="713268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20"/>
          <p:cNvSpPr/>
          <p:nvPr/>
        </p:nvSpPr>
        <p:spPr>
          <a:xfrm>
            <a:off x="5791320" y="6105600"/>
            <a:ext cx="1352520" cy="527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Bookman Old Style"/>
              </a:rPr>
              <a:t>KELOMPOK JABATAN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Bookman Old Style"/>
              </a:rPr>
              <a:t>FUNGSIONAL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45"/>
          <p:cNvSpPr/>
          <p:nvPr/>
        </p:nvSpPr>
        <p:spPr>
          <a:xfrm>
            <a:off x="1711440" y="4343400"/>
            <a:ext cx="1882800" cy="573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SEKSI  ETIKA DAN MUTU PELAYANAN MEDI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46"/>
          <p:cNvSpPr/>
          <p:nvPr/>
        </p:nvSpPr>
        <p:spPr>
          <a:xfrm>
            <a:off x="1711440" y="5213520"/>
            <a:ext cx="1882800" cy="573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SEKSI  PENGEMBANGAN  PELAYANAN DAN KERJASAMA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59"/>
          <p:cNvSpPr/>
          <p:nvPr/>
        </p:nvSpPr>
        <p:spPr>
          <a:xfrm>
            <a:off x="1414440" y="4206960"/>
            <a:ext cx="0" cy="11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Line 60"/>
          <p:cNvSpPr/>
          <p:nvPr/>
        </p:nvSpPr>
        <p:spPr>
          <a:xfrm flipH="1">
            <a:off x="1414080" y="5334120"/>
            <a:ext cx="297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-57600" bIns="-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61"/>
          <p:cNvSpPr/>
          <p:nvPr/>
        </p:nvSpPr>
        <p:spPr>
          <a:xfrm flipH="1">
            <a:off x="1414080" y="4643280"/>
            <a:ext cx="297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-57600" bIns="-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Line 62"/>
          <p:cNvSpPr/>
          <p:nvPr/>
        </p:nvSpPr>
        <p:spPr>
          <a:xfrm flipH="1">
            <a:off x="1414080" y="4211640"/>
            <a:ext cx="1189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-57600" bIns="-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Line 63"/>
          <p:cNvSpPr/>
          <p:nvPr/>
        </p:nvSpPr>
        <p:spPr>
          <a:xfrm>
            <a:off x="2603520" y="4038480"/>
            <a:ext cx="0" cy="17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Line 44"/>
          <p:cNvSpPr/>
          <p:nvPr/>
        </p:nvSpPr>
        <p:spPr>
          <a:xfrm>
            <a:off x="6980400" y="3471840"/>
            <a:ext cx="0" cy="77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45"/>
          <p:cNvSpPr/>
          <p:nvPr/>
        </p:nvSpPr>
        <p:spPr>
          <a:xfrm>
            <a:off x="6087960" y="4376880"/>
            <a:ext cx="1882800" cy="481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SEKSI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RAWAT INA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46"/>
          <p:cNvSpPr/>
          <p:nvPr/>
        </p:nvSpPr>
        <p:spPr>
          <a:xfrm>
            <a:off x="6087960" y="4970520"/>
            <a:ext cx="1882800" cy="663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SEKSI RAWAT JALAN DAN RAWAT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KHUSU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Line 59"/>
          <p:cNvSpPr/>
          <p:nvPr/>
        </p:nvSpPr>
        <p:spPr>
          <a:xfrm>
            <a:off x="5791320" y="4211640"/>
            <a:ext cx="0" cy="1001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60"/>
          <p:cNvSpPr/>
          <p:nvPr/>
        </p:nvSpPr>
        <p:spPr>
          <a:xfrm flipH="1">
            <a:off x="5791320" y="5222880"/>
            <a:ext cx="296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-57600" bIns="-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61"/>
          <p:cNvSpPr/>
          <p:nvPr/>
        </p:nvSpPr>
        <p:spPr>
          <a:xfrm flipH="1">
            <a:off x="5791320" y="4659480"/>
            <a:ext cx="296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-57600" bIns="-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Line 62"/>
          <p:cNvSpPr/>
          <p:nvPr/>
        </p:nvSpPr>
        <p:spPr>
          <a:xfrm flipH="1">
            <a:off x="5790960" y="4227480"/>
            <a:ext cx="1189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-57600" bIns="-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Line 44"/>
          <p:cNvSpPr/>
          <p:nvPr/>
        </p:nvSpPr>
        <p:spPr>
          <a:xfrm>
            <a:off x="9717120" y="3446640"/>
            <a:ext cx="0" cy="16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43"/>
          <p:cNvSpPr/>
          <p:nvPr/>
        </p:nvSpPr>
        <p:spPr>
          <a:xfrm>
            <a:off x="8709120" y="3608280"/>
            <a:ext cx="2011320" cy="451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Bookman Old Style"/>
              </a:rPr>
              <a:t>BIDANG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Bookman Old Style"/>
              </a:rPr>
              <a:t>PENUNJANG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45"/>
          <p:cNvSpPr/>
          <p:nvPr/>
        </p:nvSpPr>
        <p:spPr>
          <a:xfrm>
            <a:off x="8826480" y="4361040"/>
            <a:ext cx="1882800" cy="481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SEKSI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PENUNJANG MED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46"/>
          <p:cNvSpPr/>
          <p:nvPr/>
        </p:nvSpPr>
        <p:spPr>
          <a:xfrm>
            <a:off x="8826480" y="4965840"/>
            <a:ext cx="1882800" cy="481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SEKSI PENUNJANG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NON MED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Line 59"/>
          <p:cNvSpPr/>
          <p:nvPr/>
        </p:nvSpPr>
        <p:spPr>
          <a:xfrm>
            <a:off x="8529480" y="4255920"/>
            <a:ext cx="0" cy="938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Line 60"/>
          <p:cNvSpPr/>
          <p:nvPr/>
        </p:nvSpPr>
        <p:spPr>
          <a:xfrm flipH="1">
            <a:off x="8529120" y="5194440"/>
            <a:ext cx="297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-57600" bIns="-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61"/>
          <p:cNvSpPr/>
          <p:nvPr/>
        </p:nvSpPr>
        <p:spPr>
          <a:xfrm flipH="1">
            <a:off x="8529120" y="4619520"/>
            <a:ext cx="297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-57600" bIns="-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Line 62"/>
          <p:cNvSpPr/>
          <p:nvPr/>
        </p:nvSpPr>
        <p:spPr>
          <a:xfrm flipH="1">
            <a:off x="8529120" y="4246560"/>
            <a:ext cx="1189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-57600" bIns="-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Line 63"/>
          <p:cNvSpPr/>
          <p:nvPr/>
        </p:nvSpPr>
        <p:spPr>
          <a:xfrm>
            <a:off x="9729720" y="4073400"/>
            <a:ext cx="0" cy="17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43"/>
          <p:cNvSpPr/>
          <p:nvPr/>
        </p:nvSpPr>
        <p:spPr>
          <a:xfrm>
            <a:off x="1582560" y="3598920"/>
            <a:ext cx="2011680" cy="451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Bookman Old Style"/>
              </a:rPr>
              <a:t>BIDANG 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Bookman Old Style"/>
              </a:rPr>
              <a:t>PELAYANAN MEDIS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43"/>
          <p:cNvSpPr/>
          <p:nvPr/>
        </p:nvSpPr>
        <p:spPr>
          <a:xfrm>
            <a:off x="5973840" y="3584520"/>
            <a:ext cx="2011320" cy="451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Bookman Old Style"/>
              </a:rPr>
              <a:t>BIDANG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Bookman Old Style"/>
              </a:rPr>
              <a:t>KEPERAWATAN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19"/>
          <p:cNvSpPr/>
          <p:nvPr/>
        </p:nvSpPr>
        <p:spPr>
          <a:xfrm>
            <a:off x="5484960" y="2697120"/>
            <a:ext cx="1714320" cy="573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SUB BAGIA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PROGRAM, EVALUASI DAN PELAPORA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Line 33"/>
          <p:cNvSpPr/>
          <p:nvPr/>
        </p:nvSpPr>
        <p:spPr>
          <a:xfrm>
            <a:off x="8159760" y="2389320"/>
            <a:ext cx="0" cy="30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Line 35"/>
          <p:cNvSpPr/>
          <p:nvPr/>
        </p:nvSpPr>
        <p:spPr>
          <a:xfrm>
            <a:off x="6453360" y="2500200"/>
            <a:ext cx="3477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-57600" bIns="-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Line 36"/>
          <p:cNvSpPr/>
          <p:nvPr/>
        </p:nvSpPr>
        <p:spPr>
          <a:xfrm>
            <a:off x="6450120" y="2511360"/>
            <a:ext cx="0" cy="17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41"/>
          <p:cNvSpPr/>
          <p:nvPr/>
        </p:nvSpPr>
        <p:spPr>
          <a:xfrm>
            <a:off x="9104400" y="2693880"/>
            <a:ext cx="1716120" cy="573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SUB BAGIA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KEUANGA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Line 42"/>
          <p:cNvSpPr/>
          <p:nvPr/>
        </p:nvSpPr>
        <p:spPr>
          <a:xfrm>
            <a:off x="9942480" y="2500200"/>
            <a:ext cx="0" cy="193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Line 81"/>
          <p:cNvSpPr/>
          <p:nvPr/>
        </p:nvSpPr>
        <p:spPr>
          <a:xfrm>
            <a:off x="5391000" y="2208240"/>
            <a:ext cx="1981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-57600" bIns="-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18"/>
          <p:cNvSpPr/>
          <p:nvPr/>
        </p:nvSpPr>
        <p:spPr>
          <a:xfrm>
            <a:off x="7169040" y="2036880"/>
            <a:ext cx="1981440" cy="373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ts val="2024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SEKRETARI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40"/>
          <p:cNvSpPr/>
          <p:nvPr/>
        </p:nvSpPr>
        <p:spPr>
          <a:xfrm>
            <a:off x="7302600" y="2697120"/>
            <a:ext cx="1716120" cy="573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SUB BAGIA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UMUM DAN KEPEGAWAIA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Line 81"/>
          <p:cNvSpPr/>
          <p:nvPr/>
        </p:nvSpPr>
        <p:spPr>
          <a:xfrm>
            <a:off x="4483080" y="5802480"/>
            <a:ext cx="1981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-57600" bIns="-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17"/>
          <p:cNvSpPr/>
          <p:nvPr/>
        </p:nvSpPr>
        <p:spPr>
          <a:xfrm>
            <a:off x="5378400" y="1233360"/>
            <a:ext cx="11160" cy="4557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37"/>
          <p:cNvSpPr/>
          <p:nvPr/>
        </p:nvSpPr>
        <p:spPr>
          <a:xfrm>
            <a:off x="4335480" y="801720"/>
            <a:ext cx="2097000" cy="344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Bookman Old Style"/>
              </a:rPr>
              <a:t>DIREKTUR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36"/>
          <p:cNvSpPr/>
          <p:nvPr/>
        </p:nvSpPr>
        <p:spPr>
          <a:xfrm flipH="1">
            <a:off x="6467040" y="5791320"/>
            <a:ext cx="9720" cy="314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36"/>
          <p:cNvSpPr/>
          <p:nvPr/>
        </p:nvSpPr>
        <p:spPr>
          <a:xfrm flipH="1">
            <a:off x="4495320" y="5791320"/>
            <a:ext cx="9720" cy="314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4"/>
          <p:cNvSpPr/>
          <p:nvPr/>
        </p:nvSpPr>
        <p:spPr>
          <a:xfrm>
            <a:off x="1785960" y="1973160"/>
            <a:ext cx="1200240" cy="298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KOMIT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43"/>
          <p:cNvSpPr/>
          <p:nvPr/>
        </p:nvSpPr>
        <p:spPr>
          <a:xfrm>
            <a:off x="9828360" y="1752480"/>
            <a:ext cx="1373040" cy="663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SATUAN PENGAWA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INTERNA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32"/>
          <p:cNvSpPr/>
          <p:nvPr/>
        </p:nvSpPr>
        <p:spPr>
          <a:xfrm>
            <a:off x="10439280" y="1512720"/>
            <a:ext cx="0" cy="258840"/>
          </a:xfrm>
          <a:prstGeom prst="line">
            <a:avLst/>
          </a:prstGeom>
          <a:ln w="1908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4"/>
          <p:cNvSpPr/>
          <p:nvPr/>
        </p:nvSpPr>
        <p:spPr>
          <a:xfrm>
            <a:off x="1857240" y="1893960"/>
            <a:ext cx="1200240" cy="298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KOMIT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4"/>
          <p:cNvSpPr/>
          <p:nvPr/>
        </p:nvSpPr>
        <p:spPr>
          <a:xfrm>
            <a:off x="1928880" y="1868040"/>
            <a:ext cx="1200240" cy="298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KOMIT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4"/>
          <p:cNvSpPr/>
          <p:nvPr/>
        </p:nvSpPr>
        <p:spPr>
          <a:xfrm>
            <a:off x="3838680" y="6251400"/>
            <a:ext cx="1199880" cy="298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KOMIT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4"/>
          <p:cNvSpPr/>
          <p:nvPr/>
        </p:nvSpPr>
        <p:spPr>
          <a:xfrm>
            <a:off x="3909960" y="6172200"/>
            <a:ext cx="1200240" cy="298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KOMIT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4"/>
          <p:cNvSpPr/>
          <p:nvPr/>
        </p:nvSpPr>
        <p:spPr>
          <a:xfrm>
            <a:off x="3981600" y="6112440"/>
            <a:ext cx="1199880" cy="298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INSTALAS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31"/>
          <p:cNvSpPr/>
          <p:nvPr/>
        </p:nvSpPr>
        <p:spPr>
          <a:xfrm>
            <a:off x="1371600" y="304920"/>
            <a:ext cx="33210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marL="228600" indent="-2286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Bookman Old Style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man Old Style"/>
              </a:rPr>
              <a:t>UPTD RUMAH SAKIT UMUM DAERAH  MALINGPING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Footer Placeholder 2"/>
          <p:cNvSpPr/>
          <p:nvPr/>
        </p:nvSpPr>
        <p:spPr>
          <a:xfrm>
            <a:off x="4057560" y="7178760"/>
            <a:ext cx="37674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- 122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Group 4"/>
          <p:cNvGrpSpPr/>
          <p:nvPr/>
        </p:nvGrpSpPr>
        <p:grpSpPr>
          <a:xfrm>
            <a:off x="2470320" y="2070000"/>
            <a:ext cx="6938640" cy="3710160"/>
            <a:chOff x="2470320" y="2070000"/>
            <a:chExt cx="6938640" cy="3710160"/>
          </a:xfrm>
        </p:grpSpPr>
        <p:sp>
          <p:nvSpPr>
            <p:cNvPr id="368" name="Text Box 5"/>
            <p:cNvSpPr/>
            <p:nvPr/>
          </p:nvSpPr>
          <p:spPr>
            <a:xfrm>
              <a:off x="5159520" y="2070000"/>
              <a:ext cx="1515960" cy="276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 Old Style"/>
                </a:rPr>
                <a:t>KEPALA 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Text Box 6"/>
            <p:cNvSpPr/>
            <p:nvPr/>
          </p:nvSpPr>
          <p:spPr>
            <a:xfrm>
              <a:off x="7626240" y="2950200"/>
              <a:ext cx="1782720" cy="615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2024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SUB BAGIAN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2024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TATA USAHA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67"/>
            <p:cNvSpPr/>
            <p:nvPr/>
          </p:nvSpPr>
          <p:spPr>
            <a:xfrm>
              <a:off x="3346920" y="2715480"/>
              <a:ext cx="5170680" cy="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69"/>
            <p:cNvSpPr/>
            <p:nvPr/>
          </p:nvSpPr>
          <p:spPr>
            <a:xfrm>
              <a:off x="8517600" y="2715480"/>
              <a:ext cx="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0"/>
            <p:cNvSpPr/>
            <p:nvPr/>
          </p:nvSpPr>
          <p:spPr>
            <a:xfrm>
              <a:off x="5932080" y="2341080"/>
              <a:ext cx="0" cy="2288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69"/>
            <p:cNvSpPr/>
            <p:nvPr/>
          </p:nvSpPr>
          <p:spPr>
            <a:xfrm>
              <a:off x="3346920" y="2715480"/>
              <a:ext cx="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Text Box 6"/>
            <p:cNvSpPr/>
            <p:nvPr/>
          </p:nvSpPr>
          <p:spPr>
            <a:xfrm>
              <a:off x="6378480" y="4856400"/>
              <a:ext cx="2852640" cy="921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SEKSI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PENYELENGGARAAN PENDIDIKAN DAN PELATIHAN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Line 67"/>
            <p:cNvSpPr/>
            <p:nvPr/>
          </p:nvSpPr>
          <p:spPr>
            <a:xfrm flipV="1">
              <a:off x="4127040" y="4620600"/>
              <a:ext cx="36774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Line 69"/>
            <p:cNvSpPr/>
            <p:nvPr/>
          </p:nvSpPr>
          <p:spPr>
            <a:xfrm>
              <a:off x="7804440" y="4620600"/>
              <a:ext cx="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Text Box 6"/>
            <p:cNvSpPr/>
            <p:nvPr/>
          </p:nvSpPr>
          <p:spPr>
            <a:xfrm>
              <a:off x="2633760" y="4858200"/>
              <a:ext cx="2852640" cy="921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SEKSI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PENGKAJIAN, PENGEMBANGAN DAN PENGENDALIAN MUTU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69"/>
            <p:cNvSpPr/>
            <p:nvPr/>
          </p:nvSpPr>
          <p:spPr>
            <a:xfrm>
              <a:off x="4138560" y="4620600"/>
              <a:ext cx="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Text Box 17"/>
            <p:cNvSpPr/>
            <p:nvPr/>
          </p:nvSpPr>
          <p:spPr>
            <a:xfrm>
              <a:off x="2470320" y="2944080"/>
              <a:ext cx="1782720" cy="396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KELOMPOK JABATAN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FUNGSIONAL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18"/>
            <p:cNvSpPr/>
            <p:nvPr/>
          </p:nvSpPr>
          <p:spPr>
            <a:xfrm>
              <a:off x="2470320" y="3565080"/>
              <a:ext cx="178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19"/>
            <p:cNvSpPr/>
            <p:nvPr/>
          </p:nvSpPr>
          <p:spPr>
            <a:xfrm>
              <a:off x="2470320" y="3760200"/>
              <a:ext cx="178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20"/>
            <p:cNvSpPr/>
            <p:nvPr/>
          </p:nvSpPr>
          <p:spPr>
            <a:xfrm>
              <a:off x="2470320" y="3934800"/>
              <a:ext cx="178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21"/>
            <p:cNvSpPr/>
            <p:nvPr/>
          </p:nvSpPr>
          <p:spPr>
            <a:xfrm flipV="1">
              <a:off x="2470320" y="3358080"/>
              <a:ext cx="0" cy="58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22"/>
            <p:cNvSpPr/>
            <p:nvPr/>
          </p:nvSpPr>
          <p:spPr>
            <a:xfrm flipV="1">
              <a:off x="2726280" y="3358080"/>
              <a:ext cx="0" cy="58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23"/>
            <p:cNvSpPr/>
            <p:nvPr/>
          </p:nvSpPr>
          <p:spPr>
            <a:xfrm flipV="1">
              <a:off x="4253040" y="3358080"/>
              <a:ext cx="0" cy="58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Line 24"/>
            <p:cNvSpPr/>
            <p:nvPr/>
          </p:nvSpPr>
          <p:spPr>
            <a:xfrm flipV="1">
              <a:off x="3463920" y="3368160"/>
              <a:ext cx="0" cy="566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Line 25"/>
            <p:cNvSpPr/>
            <p:nvPr/>
          </p:nvSpPr>
          <p:spPr>
            <a:xfrm flipV="1">
              <a:off x="3731400" y="3358080"/>
              <a:ext cx="0" cy="58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26"/>
            <p:cNvSpPr/>
            <p:nvPr/>
          </p:nvSpPr>
          <p:spPr>
            <a:xfrm flipV="1">
              <a:off x="3985560" y="3358080"/>
              <a:ext cx="0" cy="58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27"/>
            <p:cNvSpPr/>
            <p:nvPr/>
          </p:nvSpPr>
          <p:spPr>
            <a:xfrm flipV="1">
              <a:off x="3209400" y="3358440"/>
              <a:ext cx="0" cy="566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28"/>
            <p:cNvSpPr/>
            <p:nvPr/>
          </p:nvSpPr>
          <p:spPr>
            <a:xfrm flipV="1">
              <a:off x="2954880" y="3358440"/>
              <a:ext cx="0" cy="566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1" name="Text Box 31"/>
          <p:cNvSpPr/>
          <p:nvPr/>
        </p:nvSpPr>
        <p:spPr>
          <a:xfrm>
            <a:off x="1371600" y="976320"/>
            <a:ext cx="297180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marL="228600" indent="-2286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Bookman Old Style"/>
              <a:buAutoNum type="alpha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man Old Style"/>
              </a:rPr>
              <a:t>UPTD PELATIHAN KESEHATA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Footer Placeholder 2"/>
          <p:cNvSpPr/>
          <p:nvPr/>
        </p:nvSpPr>
        <p:spPr>
          <a:xfrm>
            <a:off x="4060800" y="7081920"/>
            <a:ext cx="37670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- 123 -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3T17:18:14Z</dcterms:created>
  <dc:creator>TOSHIBA</dc:creator>
  <dc:description/>
  <dc:language>en-US</dc:language>
  <cp:lastModifiedBy>jdih_biro_hukum</cp:lastModifiedBy>
  <cp:lastPrinted>2018-05-04T03:44:05Z</cp:lastPrinted>
  <dcterms:modified xsi:type="dcterms:W3CDTF">2018-06-18T01:49:47Z</dcterms:modified>
  <cp:revision>688</cp:revision>
  <dc:subject/>
  <dc:title>PowerPoint Presentation</dc:title>
</cp:coreProperties>
</file>